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4981-9F30-45CB-A751-E6396EFD2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4DD8-562D-4BB2-8754-42DFBA881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768E-4772-41B8-A15D-AF8253434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7F16-1A8E-4EB0-B50C-D29907E0E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D7B2-665E-4CC0-A25D-4072A80D4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41E7-5E06-4840-860E-A75D2E26E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5050-8664-4447-AB62-247C310B6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60E2-4377-45EE-8B0B-0EE7E972F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7B44-7AF8-491B-BED7-7F436CE34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57D3-F7CF-4B2B-AED2-A22438CDE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45F0-3A25-4DD8-88CC-2B0236E1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8B05-8F4F-4B2F-9573-F80354B7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C2A3-ABE1-4071-A98B-D21BC86ED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A8CC-7E95-4288-99DF-5D5175002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3CCA-E602-48B6-8AAE-281E7DDB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3C98-7F3E-4266-921F-9FE60005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E1FD-2694-4B54-99A7-DA2E4444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4CE3-1BA4-47D8-B331-8E1CC92C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AEFB-5B4D-499F-8182-0B6F170A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D1CF-E274-4051-A90D-43027CD2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C531-BD5F-47A1-814E-A85D83C0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5E3D-62B0-46A8-AC44-7344C745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9704-54C7-4663-A434-57DFE37B4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ng Quadratic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65149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olute Value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-68400" y="4008600"/>
            <a:ext cx="1725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1295280"/>
          <a:ext cx="6858000" cy="3063960"/>
        </p:xfrm>
        <a:graphic>
          <a:graphicData uri="http://schemas.openxmlformats.org/drawingml/2006/table">
            <a:tbl>
              <a:tblPr/>
              <a:tblGrid>
                <a:gridCol w="1447920"/>
                <a:gridCol w="5410080"/>
              </a:tblGrid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GRAPHING ABSOLUTE VALUE FUN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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 a V-Shape and is symmetric about the y-axis.  So for every (x, y) on the graph, the point (-x, y) is also on the graph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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highest or the lowest point on the graph of an absolute value function is called the </a:t>
                      </a:r>
                      <a:r>
                        <a:rPr b="1" lang="en-US" sz="25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  <a:ea typeface="Times New Roman"/>
                        </a:rPr>
                        <a:t>VERTEX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0" name="Object 30"/>
              <p:cNvSpPr txBox="1"/>
              <p:nvPr/>
            </p:nvSpPr>
            <p:spPr>
              <a:xfrm>
                <a:off x="0" y="2514600"/>
                <a:ext cx="144792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01" name="Group 64"/>
          <p:cNvGrpSpPr/>
          <p:nvPr/>
        </p:nvGrpSpPr>
        <p:grpSpPr>
          <a:xfrm>
            <a:off x="1219320" y="4648320"/>
            <a:ext cx="4273560" cy="3886200"/>
            <a:chOff x="1219320" y="4648320"/>
            <a:chExt cx="4273560" cy="3886200"/>
          </a:xfrm>
        </p:grpSpPr>
        <p:pic>
          <p:nvPicPr>
            <p:cNvPr id="202" name="Picture 51" descr="graph"/>
            <p:cNvPicPr/>
            <p:nvPr/>
          </p:nvPicPr>
          <p:blipFill>
            <a:blip r:embed="rId1"/>
            <a:stretch/>
          </p:blipFill>
          <p:spPr>
            <a:xfrm>
              <a:off x="1219320" y="4648320"/>
              <a:ext cx="427356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AutoShape 52"/>
            <p:cNvSpPr/>
            <p:nvPr/>
          </p:nvSpPr>
          <p:spPr>
            <a:xfrm>
              <a:off x="3276720" y="6477120"/>
              <a:ext cx="152280" cy="228600"/>
            </a:xfrm>
            <a:custGeom>
              <a:avLst/>
              <a:gdLst>
                <a:gd name="textAreaLeft" fmla="*/ 21960 w 152280"/>
                <a:gd name="textAreaRight" fmla="*/ 130320 w 152280"/>
                <a:gd name="textAreaTop" fmla="*/ 33120 h 228600"/>
                <a:gd name="textAreaBottom" fmla="*/ 1954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AutoShape 65"/>
          <p:cNvSpPr/>
          <p:nvPr/>
        </p:nvSpPr>
        <p:spPr>
          <a:xfrm>
            <a:off x="6019920" y="83818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olute Value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-68400" y="4008600"/>
            <a:ext cx="1725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0" y="1828800"/>
          <a:ext cx="6994440" cy="2955960"/>
        </p:xfrm>
        <a:graphic>
          <a:graphicData uri="http://schemas.openxmlformats.org/drawingml/2006/table">
            <a:tbl>
              <a:tblPr/>
              <a:tblGrid>
                <a:gridCol w="1725480"/>
                <a:gridCol w="5268960"/>
              </a:tblGrid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GRAPHING ABSOLUTE VALUE FUN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4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highest or the lowest point on the graph of an absolute value function is called the </a:t>
                      </a:r>
                      <a:r>
                        <a:rPr b="1" lang="en-US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  <a:ea typeface="Times New Roman"/>
                        </a:rPr>
                        <a:t>VERTE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vertical line passing through the vertex on the graph of an absolute value function is the </a:t>
                      </a:r>
                      <a:r>
                        <a:rPr b="1" lang="en-US" sz="2400" spc="-1" strike="noStrike" u="sng">
                          <a:solidFill>
                            <a:srgbClr val="008000"/>
                          </a:solidFill>
                          <a:uFillTx/>
                          <a:latin typeface="Times New Roman"/>
                        </a:rPr>
                        <a:t>AXIS OF SYMME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8" name="Object 14"/>
              <p:cNvSpPr txBox="1"/>
              <p:nvPr/>
            </p:nvSpPr>
            <p:spPr>
              <a:xfrm>
                <a:off x="0" y="3048120"/>
                <a:ext cx="17272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09" name="Group 34"/>
          <p:cNvGrpSpPr/>
          <p:nvPr/>
        </p:nvGrpSpPr>
        <p:grpSpPr>
          <a:xfrm>
            <a:off x="1295280" y="4876920"/>
            <a:ext cx="4273560" cy="4267080"/>
            <a:chOff x="1295280" y="4876920"/>
            <a:chExt cx="4273560" cy="4267080"/>
          </a:xfrm>
        </p:grpSpPr>
        <p:pic>
          <p:nvPicPr>
            <p:cNvPr id="210" name="Picture 20" descr="graph"/>
            <p:cNvPicPr/>
            <p:nvPr/>
          </p:nvPicPr>
          <p:blipFill>
            <a:blip r:embed="rId1"/>
            <a:stretch/>
          </p:blipFill>
          <p:spPr>
            <a:xfrm>
              <a:off x="1295280" y="4876920"/>
              <a:ext cx="427356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AutoShape 32"/>
            <p:cNvSpPr/>
            <p:nvPr/>
          </p:nvSpPr>
          <p:spPr>
            <a:xfrm>
              <a:off x="3352680" y="6934320"/>
              <a:ext cx="152640" cy="228600"/>
            </a:xfrm>
            <a:custGeom>
              <a:avLst/>
              <a:gdLst>
                <a:gd name="textAreaLeft" fmla="*/ 21960 w 152640"/>
                <a:gd name="textAreaRight" fmla="*/ 130680 w 152640"/>
                <a:gd name="textAreaTop" fmla="*/ 33120 h 228600"/>
                <a:gd name="textAreaBottom" fmla="*/ 1954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33"/>
            <p:cNvSpPr/>
            <p:nvPr/>
          </p:nvSpPr>
          <p:spPr>
            <a:xfrm>
              <a:off x="3429000" y="5181480"/>
              <a:ext cx="0" cy="3581640"/>
            </a:xfrm>
            <a:prstGeom prst="line">
              <a:avLst/>
            </a:prstGeom>
            <a:ln w="38160">
              <a:solidFill>
                <a:srgbClr val="008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AutoShape 35"/>
          <p:cNvSpPr/>
          <p:nvPr/>
        </p:nvSpPr>
        <p:spPr>
          <a:xfrm>
            <a:off x="6019920" y="83818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0" y="23623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Parabo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U-shaped graph of a quadratic function is called a parabo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365760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Vert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parabola The lowest or highest point on the graph of a quadrati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45720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xis of symmetry of a parabo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vertical line passing through the vertex on the graph of a quadrati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0"/>
          <p:cNvGrpSpPr/>
          <p:nvPr/>
        </p:nvGrpSpPr>
        <p:grpSpPr>
          <a:xfrm>
            <a:off x="4680" y="6019920"/>
            <a:ext cx="6765840" cy="459720"/>
            <a:chOff x="4680" y="6019920"/>
            <a:chExt cx="6765840" cy="459720"/>
          </a:xfrm>
        </p:grpSpPr>
        <p:sp>
          <p:nvSpPr>
            <p:cNvPr id="54" name="Rectangle 8"/>
            <p:cNvSpPr/>
            <p:nvPr/>
          </p:nvSpPr>
          <p:spPr>
            <a:xfrm>
              <a:off x="4680" y="6019920"/>
              <a:ext cx="676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Arial"/>
                </a:rPr>
                <a:t>Standard form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The form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y=a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bx+c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Object 9"/>
                <p:cNvSpPr txBox="1"/>
                <p:nvPr/>
              </p:nvSpPr>
              <p:spPr>
                <a:xfrm>
                  <a:off x="6172200" y="6095880"/>
                  <a:ext cx="3808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56" name="Group 16"/>
          <p:cNvGrpSpPr/>
          <p:nvPr/>
        </p:nvGrpSpPr>
        <p:grpSpPr>
          <a:xfrm>
            <a:off x="0" y="380880"/>
            <a:ext cx="6858000" cy="1828800"/>
            <a:chOff x="0" y="380880"/>
            <a:chExt cx="6858000" cy="1828800"/>
          </a:xfrm>
        </p:grpSpPr>
        <p:sp>
          <p:nvSpPr>
            <p:cNvPr id="57" name="Rectangle 4"/>
            <p:cNvSpPr/>
            <p:nvPr/>
          </p:nvSpPr>
          <p:spPr>
            <a:xfrm>
              <a:off x="0" y="380880"/>
              <a:ext cx="68580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VOCABULA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Arial"/>
                </a:rPr>
                <a:t>Quadratic fun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A function that can be written in the form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y=a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bx+c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Object 15"/>
                <p:cNvSpPr txBox="1"/>
                <p:nvPr/>
              </p:nvSpPr>
              <p:spPr>
                <a:xfrm>
                  <a:off x="4343400" y="1828800"/>
                  <a:ext cx="3808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59" name="Text Box 17"/>
          <p:cNvSpPr/>
          <p:nvPr/>
        </p:nvSpPr>
        <p:spPr>
          <a:xfrm>
            <a:off x="0" y="686124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efficients a, b, and c can be used to determine characteristics of the gra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=a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bx+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8"/>
          <p:cNvGrpSpPr/>
          <p:nvPr/>
        </p:nvGrpSpPr>
        <p:grpSpPr>
          <a:xfrm>
            <a:off x="1830600" y="1371600"/>
            <a:ext cx="1587240" cy="1282680"/>
            <a:chOff x="1830600" y="1371600"/>
            <a:chExt cx="1587240" cy="1282680"/>
          </a:xfrm>
        </p:grpSpPr>
        <p:sp>
          <p:nvSpPr>
            <p:cNvPr id="62" name="AutoShape 6"/>
            <p:cNvSpPr/>
            <p:nvPr/>
          </p:nvSpPr>
          <p:spPr>
            <a:xfrm>
              <a:off x="2438640" y="1371600"/>
              <a:ext cx="457200" cy="457200"/>
            </a:xfrm>
            <a:prstGeom prst="downArrowCallout">
              <a:avLst>
                <a:gd name="adj1" fmla="val 25002"/>
                <a:gd name="adj2" fmla="val 50000"/>
                <a:gd name="adj3" fmla="val 16667"/>
                <a:gd name="adj4" fmla="val 66667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7"/>
            <p:cNvSpPr/>
            <p:nvPr/>
          </p:nvSpPr>
          <p:spPr>
            <a:xfrm>
              <a:off x="1830600" y="1828800"/>
              <a:ext cx="1587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Arial"/>
                </a:rPr>
                <a:t>Quadrati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Arial"/>
                </a:rPr>
                <a:t>te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9"/>
          <p:cNvGrpSpPr/>
          <p:nvPr/>
        </p:nvGrpSpPr>
        <p:grpSpPr>
          <a:xfrm>
            <a:off x="3355200" y="1371600"/>
            <a:ext cx="1112040" cy="1282680"/>
            <a:chOff x="3355200" y="1371600"/>
            <a:chExt cx="1112040" cy="1282680"/>
          </a:xfrm>
        </p:grpSpPr>
        <p:sp>
          <p:nvSpPr>
            <p:cNvPr id="65" name="AutoShape 10"/>
            <p:cNvSpPr/>
            <p:nvPr/>
          </p:nvSpPr>
          <p:spPr>
            <a:xfrm>
              <a:off x="3724200" y="1371600"/>
              <a:ext cx="457200" cy="457200"/>
            </a:xfrm>
            <a:prstGeom prst="downArrowCallout">
              <a:avLst>
                <a:gd name="adj1" fmla="val 25002"/>
                <a:gd name="adj2" fmla="val 50000"/>
                <a:gd name="adj3" fmla="val 16667"/>
                <a:gd name="adj4" fmla="val 66667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11"/>
            <p:cNvSpPr/>
            <p:nvPr/>
          </p:nvSpPr>
          <p:spPr>
            <a:xfrm>
              <a:off x="3355200" y="1828800"/>
              <a:ext cx="1112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Linea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te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AutoShape 13"/>
          <p:cNvSpPr/>
          <p:nvPr/>
        </p:nvSpPr>
        <p:spPr>
          <a:xfrm>
            <a:off x="4876920" y="1012680"/>
            <a:ext cx="457200" cy="892440"/>
          </a:xfrm>
          <a:prstGeom prst="downArrowCallout">
            <a:avLst>
              <a:gd name="adj1" fmla="val 25002"/>
              <a:gd name="adj2" fmla="val 50000"/>
              <a:gd name="adj3" fmla="val 32533"/>
              <a:gd name="adj4" fmla="val 6666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4267080" y="1981080"/>
            <a:ext cx="159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ons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6" descr="slide%202"/>
          <p:cNvPicPr/>
          <p:nvPr/>
        </p:nvPicPr>
        <p:blipFill>
          <a:blip r:embed="rId1">
            <a:lum contrast="16000"/>
          </a:blip>
          <a:srcRect l="0" t="42803" r="35853" b="14598"/>
          <a:stretch/>
        </p:blipFill>
        <p:spPr>
          <a:xfrm>
            <a:off x="-3508200" y="1676520"/>
            <a:ext cx="3508200" cy="243504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70" name="Picture 18" descr="slide%202"/>
          <p:cNvPicPr/>
          <p:nvPr/>
        </p:nvPicPr>
        <p:blipFill>
          <a:blip r:embed="rId2"/>
          <a:srcRect l="62706" t="40803" r="0" b="23803"/>
          <a:stretch/>
        </p:blipFill>
        <p:spPr>
          <a:xfrm>
            <a:off x="6858000" y="2819520"/>
            <a:ext cx="2590920" cy="23652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71" name="Text Box 21"/>
          <p:cNvSpPr/>
          <p:nvPr/>
        </p:nvSpPr>
        <p:spPr>
          <a:xfrm>
            <a:off x="4343400" y="59436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value of x to determine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22"/>
              <p:cNvSpPr txBox="1"/>
              <p:nvPr/>
            </p:nvSpPr>
            <p:spPr>
              <a:xfrm>
                <a:off x="2057400" y="6019920"/>
                <a:ext cx="1143000" cy="13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Text Box 24"/>
          <p:cNvSpPr/>
          <p:nvPr/>
        </p:nvSpPr>
        <p:spPr>
          <a:xfrm>
            <a:off x="0" y="609912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coefficients to determine the vertex and the axis of symme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5"/>
          <p:cNvSpPr/>
          <p:nvPr/>
        </p:nvSpPr>
        <p:spPr>
          <a:xfrm>
            <a:off x="1295280" y="6324480"/>
            <a:ext cx="99072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6"/>
          <p:cNvSpPr/>
          <p:nvPr/>
        </p:nvSpPr>
        <p:spPr>
          <a:xfrm>
            <a:off x="3276720" y="6400800"/>
            <a:ext cx="99036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7"/>
          <p:cNvSpPr/>
          <p:nvPr/>
        </p:nvSpPr>
        <p:spPr>
          <a:xfrm>
            <a:off x="4800600" y="7086600"/>
            <a:ext cx="0" cy="3808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8"/>
          <p:cNvSpPr/>
          <p:nvPr/>
        </p:nvSpPr>
        <p:spPr>
          <a:xfrm>
            <a:off x="4419720" y="75438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7"/>
          <p:cNvSpPr/>
          <p:nvPr/>
        </p:nvSpPr>
        <p:spPr>
          <a:xfrm>
            <a:off x="3048120" y="7162920"/>
            <a:ext cx="1371600" cy="457200"/>
          </a:xfrm>
          <a:prstGeom prst="line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292 0.13351 L 0.03074 0.15104 C 0.06449 0.15504 0.11581 0.15747 0.16851 0.15747 C 0.22977 0.15747 0.27831 0.15504 0.31276 0.15104 L 0.47734 0.13351 E">
                                      <p:cBhvr>
                                        <p:cTn id="38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44 0.04861 L -0.08507 0.01771 C -0.10934 0.01077 -0.14586 0.00573 -0.18493 0.004 C -0.22977 0.00191 -0.26514 0.004 -0.29034 0.00799 L -0.41147 0.02848 E">
                                      <p:cBhvr>
                                        <p:cTn id="52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9" name="Object 4"/>
              <p:cNvSpPr txBox="1"/>
              <p:nvPr/>
            </p:nvSpPr>
            <p:spPr>
              <a:xfrm>
                <a:off x="1371600" y="609480"/>
                <a:ext cx="403848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12"/>
              <p:cNvSpPr txBox="1"/>
              <p:nvPr/>
            </p:nvSpPr>
            <p:spPr>
              <a:xfrm>
                <a:off x="1295280" y="1371600"/>
                <a:ext cx="419112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Text Box 17"/>
          <p:cNvSpPr/>
          <p:nvPr/>
        </p:nvSpPr>
        <p:spPr>
          <a:xfrm>
            <a:off x="-11880" y="228600"/>
            <a:ext cx="69152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nding Important Features of Quadratic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21"/>
              <p:cNvSpPr txBox="1"/>
              <p:nvPr/>
            </p:nvSpPr>
            <p:spPr>
              <a:xfrm>
                <a:off x="0" y="3124080"/>
                <a:ext cx="14479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" name="Text Box 24"/>
          <p:cNvSpPr/>
          <p:nvPr/>
        </p:nvSpPr>
        <p:spPr>
          <a:xfrm>
            <a:off x="-35280" y="2543040"/>
            <a:ext cx="29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xis of Sym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25"/>
              <p:cNvSpPr txBox="1"/>
              <p:nvPr/>
            </p:nvSpPr>
            <p:spPr>
              <a:xfrm>
                <a:off x="1371600" y="3124080"/>
                <a:ext cx="16444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29"/>
              <p:cNvSpPr txBox="1"/>
              <p:nvPr/>
            </p:nvSpPr>
            <p:spPr>
              <a:xfrm>
                <a:off x="2971800" y="3200400"/>
                <a:ext cx="838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Rectangle 32"/>
          <p:cNvSpPr/>
          <p:nvPr/>
        </p:nvSpPr>
        <p:spPr>
          <a:xfrm>
            <a:off x="4064400" y="4572000"/>
            <a:ext cx="278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pens Up/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42"/>
              <p:cNvSpPr txBox="1"/>
              <p:nvPr/>
            </p:nvSpPr>
            <p:spPr>
              <a:xfrm>
                <a:off x="228600" y="4800600"/>
                <a:ext cx="19810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51"/>
              <p:cNvSpPr txBox="1"/>
              <p:nvPr/>
            </p:nvSpPr>
            <p:spPr>
              <a:xfrm>
                <a:off x="0" y="5486400"/>
                <a:ext cx="24382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Text Box 54"/>
          <p:cNvSpPr/>
          <p:nvPr/>
        </p:nvSpPr>
        <p:spPr>
          <a:xfrm>
            <a:off x="0" y="60199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2-4-2=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5"/>
          <p:cNvSpPr/>
          <p:nvPr/>
        </p:nvSpPr>
        <p:spPr>
          <a:xfrm>
            <a:off x="230400" y="6629400"/>
            <a:ext cx="125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-1, -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6"/>
          <p:cNvSpPr/>
          <p:nvPr/>
        </p:nvSpPr>
        <p:spPr>
          <a:xfrm>
            <a:off x="1440" y="434340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rt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7"/>
          <p:cNvSpPr/>
          <p:nvPr/>
        </p:nvSpPr>
        <p:spPr>
          <a:xfrm>
            <a:off x="3809880" y="51055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=+2    Opens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8"/>
          <p:cNvSpPr/>
          <p:nvPr/>
        </p:nvSpPr>
        <p:spPr>
          <a:xfrm>
            <a:off x="4451040" y="5743440"/>
            <a:ext cx="18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y-inter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0"/>
          <p:cNvSpPr/>
          <p:nvPr/>
        </p:nvSpPr>
        <p:spPr>
          <a:xfrm>
            <a:off x="4338000" y="6324480"/>
            <a:ext cx="99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0,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1"/>
          <p:cNvSpPr/>
          <p:nvPr/>
        </p:nvSpPr>
        <p:spPr>
          <a:xfrm>
            <a:off x="5106960" y="670572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0, -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Forms of a Quadratic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43080" y="2133360"/>
            <a:ext cx="300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Vertex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504960" y="2133360"/>
            <a:ext cx="30099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Intercept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2"/>
              <p:cNvSpPr txBox="1"/>
              <p:nvPr/>
            </p:nvSpPr>
            <p:spPr>
              <a:xfrm>
                <a:off x="0" y="2666880"/>
                <a:ext cx="449568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h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Content Placeholder 2"/>
          <p:cNvSpPr/>
          <p:nvPr/>
        </p:nvSpPr>
        <p:spPr>
          <a:xfrm>
            <a:off x="0" y="3886200"/>
            <a:ext cx="2057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he vertex is (h, 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ontent Placeholder 2"/>
          <p:cNvSpPr/>
          <p:nvPr/>
        </p:nvSpPr>
        <p:spPr>
          <a:xfrm>
            <a:off x="0" y="4952880"/>
            <a:ext cx="2286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he axis of symmetry is x=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3"/>
              <p:cNvSpPr txBox="1"/>
              <p:nvPr/>
            </p:nvSpPr>
            <p:spPr>
              <a:xfrm>
                <a:off x="1523880" y="2514600"/>
                <a:ext cx="508788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Content Placeholder 2"/>
          <p:cNvSpPr/>
          <p:nvPr/>
        </p:nvSpPr>
        <p:spPr>
          <a:xfrm>
            <a:off x="3962520" y="3962520"/>
            <a:ext cx="2895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he x-intercepts are </a:t>
            </a:r>
            <a:r>
              <a:rPr b="0" i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ontent Placeholder 2"/>
          <p:cNvSpPr/>
          <p:nvPr/>
        </p:nvSpPr>
        <p:spPr>
          <a:xfrm>
            <a:off x="4114800" y="4952880"/>
            <a:ext cx="2743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he axis of symmetry is halfway between (</a:t>
            </a:r>
            <a:r>
              <a:rPr b="0" i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 0) and (</a:t>
            </a:r>
            <a:r>
              <a:rPr b="0" i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q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"/>
          <p:cNvSpPr/>
          <p:nvPr/>
        </p:nvSpPr>
        <p:spPr>
          <a:xfrm>
            <a:off x="1613160" y="5943600"/>
            <a:ext cx="2513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 all 3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&gt;0 opens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&lt;0 open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5 0.00382 L 0.02774 0.58316 E">
                                      <p:cBhvr>
                                        <p:cTn id="207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6" name="Object 2"/>
              <p:cNvSpPr txBox="1"/>
              <p:nvPr/>
            </p:nvSpPr>
            <p:spPr>
              <a:xfrm>
                <a:off x="1600200" y="0"/>
                <a:ext cx="403848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Text Box 6"/>
          <p:cNvSpPr/>
          <p:nvPr/>
        </p:nvSpPr>
        <p:spPr>
          <a:xfrm>
            <a:off x="0" y="20574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xis of Sym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8"/>
              <p:cNvSpPr txBox="1"/>
              <p:nvPr/>
            </p:nvSpPr>
            <p:spPr>
              <a:xfrm>
                <a:off x="304920" y="2895480"/>
                <a:ext cx="1076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Text Box 13"/>
          <p:cNvSpPr/>
          <p:nvPr/>
        </p:nvSpPr>
        <p:spPr>
          <a:xfrm>
            <a:off x="1828800" y="2971800"/>
            <a:ext cx="12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-1, -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1753920" y="243828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rt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0"/>
          <p:cNvSpPr/>
          <p:nvPr/>
        </p:nvSpPr>
        <p:spPr>
          <a:xfrm>
            <a:off x="0" y="3049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0" y="99072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lready know the vertex and axis of symmet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3240" y="358128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1601280" y="3581280"/>
            <a:ext cx="19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 ver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4"/>
          <p:cNvSpPr/>
          <p:nvPr/>
        </p:nvSpPr>
        <p:spPr>
          <a:xfrm>
            <a:off x="3135240" y="2057400"/>
            <a:ext cx="372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termine at least 2 other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495680" y="3048120"/>
          <a:ext cx="1143000" cy="156996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</a:tblGrid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Line 59"/>
          <p:cNvSpPr/>
          <p:nvPr/>
        </p:nvSpPr>
        <p:spPr>
          <a:xfrm>
            <a:off x="838080" y="3886200"/>
            <a:ext cx="1067040" cy="8380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0"/>
          <p:cNvSpPr/>
          <p:nvPr/>
        </p:nvSpPr>
        <p:spPr>
          <a:xfrm>
            <a:off x="2590920" y="3962520"/>
            <a:ext cx="0" cy="8380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6" descr=""/>
          <p:cNvPicPr/>
          <p:nvPr/>
        </p:nvPicPr>
        <p:blipFill>
          <a:blip r:embed="rId1"/>
          <a:stretch/>
        </p:blipFill>
        <p:spPr>
          <a:xfrm>
            <a:off x="0" y="4952880"/>
            <a:ext cx="5791320" cy="3915000"/>
          </a:xfrm>
          <a:prstGeom prst="rect">
            <a:avLst/>
          </a:prstGeom>
          <a:ln w="0">
            <a:noFill/>
          </a:ln>
        </p:spPr>
      </p:pic>
      <p:cxnSp>
        <p:nvCxnSpPr>
          <p:cNvPr id="120" name="Straight Arrow Connector 36"/>
          <p:cNvCxnSpPr/>
          <p:nvPr/>
        </p:nvCxnSpPr>
        <p:spPr>
          <a:xfrm flipH="1">
            <a:off x="2590560" y="5105520"/>
            <a:ext cx="2160" cy="3582000"/>
          </a:xfrm>
          <a:prstGeom prst="straightConnector1">
            <a:avLst/>
          </a:prstGeom>
          <a:ln w="38160">
            <a:solidFill>
              <a:srgbClr val="008000"/>
            </a:solidFill>
            <a:miter/>
            <a:headEnd len="med" type="arrow" w="med"/>
            <a:tailEnd len="med" type="arrow" w="med"/>
          </a:ln>
        </p:spPr>
      </p:cxnSp>
      <p:sp>
        <p:nvSpPr>
          <p:cNvPr id="121" name="Donut 39"/>
          <p:cNvSpPr/>
          <p:nvPr/>
        </p:nvSpPr>
        <p:spPr>
          <a:xfrm>
            <a:off x="2514600" y="8001000"/>
            <a:ext cx="152280" cy="304920"/>
          </a:xfrm>
          <a:custGeom>
            <a:avLst/>
            <a:gdLst>
              <a:gd name="textAreaLeft" fmla="*/ 22320 w 152280"/>
              <a:gd name="textAreaRight" fmla="*/ 129960 w 152280"/>
              <a:gd name="textAreaTop" fmla="*/ 44640 h 304920"/>
              <a:gd name="textAreaBottom" fmla="*/ 260280 h 304920"/>
            </a:gdLst>
            <a:ahLst/>
            <a:rect l="textAreaLeft" t="textAreaTop" r="textAreaRight" b="textAreaBottom"/>
            <a:pathLst>
              <a:path w="152400" h="304800">
                <a:moveTo>
                  <a:pt x="0" y="152400"/>
                </a:moveTo>
                <a:lnTo>
                  <a:pt x="0" y="152400"/>
                </a:lnTo>
                <a:arcTo wR="76200" hR="152400" stAng="10800000" swAng="5400000"/>
                <a:lnTo>
                  <a:pt x="76200" y="0"/>
                </a:lnTo>
                <a:arcTo wR="76200" hR="152400" stAng="-5400000" swAng="5400000"/>
                <a:lnTo>
                  <a:pt x="152400" y="152400"/>
                </a:lnTo>
                <a:arcTo wR="76200" hR="152400" stAng="0" swAng="5400000"/>
                <a:lnTo>
                  <a:pt x="76200" y="304800"/>
                </a:lnTo>
                <a:arcTo wR="76200" hR="152400" stAng="5400000" swAng="5400000"/>
                <a:close/>
                <a:moveTo>
                  <a:pt x="38100" y="152400"/>
                </a:moveTo>
                <a:lnTo>
                  <a:pt x="38100" y="152400"/>
                </a:lnTo>
                <a:arcTo wR="38100" hR="114300" stAng="10800000" swAng="-5400000"/>
                <a:lnTo>
                  <a:pt x="76200" y="266700"/>
                </a:lnTo>
                <a:arcTo wR="38100" hR="114300" stAng="5400000" swAng="-5400000"/>
                <a:lnTo>
                  <a:pt x="114300" y="152400"/>
                </a:lnTo>
                <a:arcTo wR="38100" hR="114300" stAng="0" swAng="-5400000"/>
                <a:lnTo>
                  <a:pt x="76200" y="38100"/>
                </a:lnTo>
                <a:arcTo wR="38100" hR="114300" stAng="-5400000" swAng="-5400000"/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40"/>
          <p:cNvSpPr/>
          <p:nvPr/>
        </p:nvSpPr>
        <p:spPr>
          <a:xfrm>
            <a:off x="2819520" y="7696080"/>
            <a:ext cx="182520" cy="18252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62"/>
          <p:cNvSpPr/>
          <p:nvPr/>
        </p:nvSpPr>
        <p:spPr>
          <a:xfrm flipH="1">
            <a:off x="3276360" y="4495680"/>
            <a:ext cx="1600200" cy="19051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2"/>
          <p:cNvSpPr/>
          <p:nvPr/>
        </p:nvSpPr>
        <p:spPr>
          <a:xfrm flipH="1">
            <a:off x="2362320" y="7772400"/>
            <a:ext cx="45720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43"/>
          <p:cNvSpPr/>
          <p:nvPr/>
        </p:nvSpPr>
        <p:spPr>
          <a:xfrm flipH="1">
            <a:off x="2208960" y="7696080"/>
            <a:ext cx="182520" cy="18252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44"/>
          <p:cNvSpPr/>
          <p:nvPr/>
        </p:nvSpPr>
        <p:spPr>
          <a:xfrm>
            <a:off x="3048120" y="6324480"/>
            <a:ext cx="182520" cy="18252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45"/>
          <p:cNvSpPr/>
          <p:nvPr/>
        </p:nvSpPr>
        <p:spPr>
          <a:xfrm>
            <a:off x="2133720" y="6324480"/>
            <a:ext cx="182520" cy="18252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2"/>
          <p:cNvSpPr/>
          <p:nvPr/>
        </p:nvSpPr>
        <p:spPr>
          <a:xfrm flipH="1">
            <a:off x="2361960" y="6400800"/>
            <a:ext cx="68580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 flipH="1">
            <a:off x="3124080" y="3809880"/>
            <a:ext cx="1447920" cy="403884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Ink 68"/>
          <p:cNvSpPr/>
          <p:nvPr/>
        </p:nvSpPr>
        <p:spPr>
          <a:xfrm>
            <a:off x="3011400" y="73231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367" y="20340"/>
                </a:moveTo>
                <a:lnTo>
                  <a:pt x="8367" y="20340"/>
                </a:lnTo>
              </a:path>
            </a:pathLst>
          </a:custGeom>
          <a:noFill/>
          <a:ln cap="rnd" w="1908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Ink 69"/>
          <p:cNvSpPr/>
          <p:nvPr/>
        </p:nvSpPr>
        <p:spPr>
          <a:xfrm>
            <a:off x="2057400" y="5029200"/>
            <a:ext cx="1216080" cy="3166920"/>
          </a:xfrm>
          <a:custGeom>
            <a:avLst/>
            <a:gdLst/>
            <a:ahLst/>
            <a:rect l="l" t="t" r="r" b="b"/>
            <a:pathLst>
              <a:path w="3375" h="8799">
                <a:moveTo>
                  <a:pt x="8301" y="20373"/>
                </a:moveTo>
                <a:cubicBezTo>
                  <a:pt x="8324" y="20343"/>
                  <a:pt x="8345" y="20348"/>
                  <a:pt x="8367" y="20307"/>
                </a:cubicBezTo>
                <a:cubicBezTo>
                  <a:pt x="8381" y="20280"/>
                  <a:pt x="8397" y="20203"/>
                  <a:pt x="8401" y="20174"/>
                </a:cubicBezTo>
                <a:cubicBezTo>
                  <a:pt x="8435" y="19907"/>
                  <a:pt x="8411" y="19599"/>
                  <a:pt x="8434" y="19348"/>
                </a:cubicBezTo>
                <a:cubicBezTo>
                  <a:pt x="8439" y="19293"/>
                  <a:pt x="8460" y="19270"/>
                  <a:pt x="8467" y="19215"/>
                </a:cubicBezTo>
                <a:cubicBezTo>
                  <a:pt x="8475" y="19146"/>
                  <a:pt x="8490" y="19079"/>
                  <a:pt x="8500" y="19050"/>
                </a:cubicBezTo>
                <a:cubicBezTo>
                  <a:pt x="8515" y="19006"/>
                  <a:pt x="8514" y="19008"/>
                  <a:pt x="8533" y="18951"/>
                </a:cubicBezTo>
                <a:cubicBezTo>
                  <a:pt x="8547" y="18909"/>
                  <a:pt x="8546" y="18879"/>
                  <a:pt x="8566" y="18818"/>
                </a:cubicBezTo>
                <a:cubicBezTo>
                  <a:pt x="8580" y="18776"/>
                  <a:pt x="8594" y="18763"/>
                  <a:pt x="8599" y="18719"/>
                </a:cubicBezTo>
                <a:cubicBezTo>
                  <a:pt x="8606" y="18664"/>
                  <a:pt x="8627" y="18595"/>
                  <a:pt x="8632" y="18554"/>
                </a:cubicBezTo>
                <a:cubicBezTo>
                  <a:pt x="8651" y="18399"/>
                  <a:pt x="8624" y="18195"/>
                  <a:pt x="8599" y="18091"/>
                </a:cubicBezTo>
                <a:cubicBezTo>
                  <a:pt x="8591" y="18059"/>
                  <a:pt x="8569" y="17979"/>
                  <a:pt x="8566" y="17959"/>
                </a:cubicBezTo>
                <a:cubicBezTo>
                  <a:pt x="8553" y="17851"/>
                  <a:pt x="8573" y="17751"/>
                  <a:pt x="8599" y="17661"/>
                </a:cubicBezTo>
                <a:cubicBezTo>
                  <a:pt x="8610" y="17624"/>
                  <a:pt x="8619" y="17571"/>
                  <a:pt x="8632" y="17529"/>
                </a:cubicBezTo>
                <a:cubicBezTo>
                  <a:pt x="8650" y="17469"/>
                  <a:pt x="8650" y="17430"/>
                  <a:pt x="8665" y="17363"/>
                </a:cubicBezTo>
                <a:cubicBezTo>
                  <a:pt x="8680" y="17297"/>
                  <a:pt x="8685" y="17240"/>
                  <a:pt x="8698" y="17165"/>
                </a:cubicBezTo>
                <a:cubicBezTo>
                  <a:pt x="8711" y="17084"/>
                  <a:pt x="8729" y="17021"/>
                  <a:pt x="8731" y="16933"/>
                </a:cubicBezTo>
                <a:cubicBezTo>
                  <a:pt x="8748" y="16285"/>
                  <a:pt x="8644" y="15581"/>
                  <a:pt x="8764" y="14949"/>
                </a:cubicBezTo>
                <a:cubicBezTo>
                  <a:pt x="8784" y="14842"/>
                  <a:pt x="8810" y="14753"/>
                  <a:pt x="8830" y="14651"/>
                </a:cubicBezTo>
                <a:cubicBezTo>
                  <a:pt x="8852" y="14540"/>
                  <a:pt x="8870" y="14428"/>
                  <a:pt x="8897" y="14321"/>
                </a:cubicBezTo>
                <a:cubicBezTo>
                  <a:pt x="8916" y="14244"/>
                  <a:pt x="8923" y="14170"/>
                  <a:pt x="8930" y="14089"/>
                </a:cubicBezTo>
                <a:cubicBezTo>
                  <a:pt x="8936" y="14023"/>
                  <a:pt x="8956" y="13990"/>
                  <a:pt x="8963" y="13924"/>
                </a:cubicBezTo>
                <a:cubicBezTo>
                  <a:pt x="8966" y="13892"/>
                  <a:pt x="8956" y="13855"/>
                  <a:pt x="8963" y="13824"/>
                </a:cubicBezTo>
              </a:path>
              <a:path w="3375" h="8799">
                <a:moveTo>
                  <a:pt x="8731" y="17892"/>
                </a:moveTo>
                <a:cubicBezTo>
                  <a:pt x="8718" y="17943"/>
                  <a:pt x="8704" y="18009"/>
                  <a:pt x="8698" y="18025"/>
                </a:cubicBezTo>
                <a:cubicBezTo>
                  <a:pt x="8681" y="18073"/>
                  <a:pt x="8647" y="18113"/>
                  <a:pt x="8632" y="18157"/>
                </a:cubicBezTo>
                <a:cubicBezTo>
                  <a:pt x="8617" y="18201"/>
                  <a:pt x="8604" y="18282"/>
                  <a:pt x="8599" y="18322"/>
                </a:cubicBezTo>
                <a:cubicBezTo>
                  <a:pt x="8585" y="18438"/>
                  <a:pt x="8584" y="18551"/>
                  <a:pt x="8566" y="18653"/>
                </a:cubicBezTo>
                <a:cubicBezTo>
                  <a:pt x="8555" y="18716"/>
                  <a:pt x="8544" y="18761"/>
                  <a:pt x="8533" y="18818"/>
                </a:cubicBezTo>
                <a:cubicBezTo>
                  <a:pt x="8520" y="18881"/>
                  <a:pt x="8507" y="18871"/>
                  <a:pt x="8500" y="18918"/>
                </a:cubicBezTo>
                <a:cubicBezTo>
                  <a:pt x="8493" y="18971"/>
                  <a:pt x="8467" y="19111"/>
                  <a:pt x="8467" y="19116"/>
                </a:cubicBezTo>
                <a:cubicBezTo>
                  <a:pt x="8461" y="19186"/>
                  <a:pt x="8436" y="19328"/>
                  <a:pt x="8434" y="19348"/>
                </a:cubicBezTo>
                <a:cubicBezTo>
                  <a:pt x="8425" y="19465"/>
                  <a:pt x="8422" y="19565"/>
                  <a:pt x="8401" y="19678"/>
                </a:cubicBezTo>
                <a:cubicBezTo>
                  <a:pt x="8392" y="19727"/>
                  <a:pt x="8377" y="19758"/>
                  <a:pt x="8367" y="19811"/>
                </a:cubicBezTo>
                <a:cubicBezTo>
                  <a:pt x="8355" y="19873"/>
                  <a:pt x="8345" y="19921"/>
                  <a:pt x="8334" y="19976"/>
                </a:cubicBezTo>
                <a:cubicBezTo>
                  <a:pt x="8324" y="20025"/>
                  <a:pt x="8305" y="20063"/>
                  <a:pt x="8301" y="20108"/>
                </a:cubicBezTo>
                <a:cubicBezTo>
                  <a:pt x="8296" y="20167"/>
                  <a:pt x="8269" y="20297"/>
                  <a:pt x="8268" y="20307"/>
                </a:cubicBezTo>
                <a:cubicBezTo>
                  <a:pt x="8263" y="20375"/>
                  <a:pt x="8236" y="20523"/>
                  <a:pt x="8235" y="20538"/>
                </a:cubicBezTo>
                <a:cubicBezTo>
                  <a:pt x="8228" y="20624"/>
                  <a:pt x="8216" y="20698"/>
                  <a:pt x="8202" y="20770"/>
                </a:cubicBezTo>
                <a:cubicBezTo>
                  <a:pt x="8192" y="20820"/>
                  <a:pt x="8174" y="20855"/>
                  <a:pt x="8169" y="20902"/>
                </a:cubicBezTo>
                <a:cubicBezTo>
                  <a:pt x="8162" y="20958"/>
                  <a:pt x="8137" y="21093"/>
                  <a:pt x="8136" y="21101"/>
                </a:cubicBezTo>
                <a:cubicBezTo>
                  <a:pt x="8129" y="21192"/>
                  <a:pt x="8127" y="21254"/>
                  <a:pt x="8103" y="21332"/>
                </a:cubicBezTo>
                <a:cubicBezTo>
                  <a:pt x="8088" y="21380"/>
                  <a:pt x="8086" y="21369"/>
                  <a:pt x="8070" y="21431"/>
                </a:cubicBezTo>
                <a:cubicBezTo>
                  <a:pt x="8060" y="21472"/>
                  <a:pt x="8053" y="21523"/>
                  <a:pt x="8037" y="21564"/>
                </a:cubicBezTo>
                <a:cubicBezTo>
                  <a:pt x="8021" y="21607"/>
                  <a:pt x="8025" y="21609"/>
                  <a:pt x="8004" y="21663"/>
                </a:cubicBezTo>
                <a:cubicBezTo>
                  <a:pt x="7987" y="21708"/>
                  <a:pt x="7963" y="21704"/>
                  <a:pt x="7938" y="21762"/>
                </a:cubicBezTo>
                <a:cubicBezTo>
                  <a:pt x="7915" y="21815"/>
                  <a:pt x="7925" y="21819"/>
                  <a:pt x="7904" y="21861"/>
                </a:cubicBezTo>
                <a:cubicBezTo>
                  <a:pt x="7880" y="21908"/>
                  <a:pt x="7850" y="21922"/>
                  <a:pt x="7838" y="21960"/>
                </a:cubicBezTo>
                <a:cubicBezTo>
                  <a:pt x="7823" y="22007"/>
                  <a:pt x="7826" y="22049"/>
                  <a:pt x="7805" y="22093"/>
                </a:cubicBezTo>
                <a:cubicBezTo>
                  <a:pt x="7782" y="22140"/>
                  <a:pt x="7769" y="22179"/>
                  <a:pt x="7739" y="22225"/>
                </a:cubicBezTo>
                <a:cubicBezTo>
                  <a:pt x="7709" y="22272"/>
                  <a:pt x="7673" y="22316"/>
                  <a:pt x="7640" y="22357"/>
                </a:cubicBezTo>
                <a:cubicBezTo>
                  <a:pt x="7604" y="22401"/>
                  <a:pt x="7602" y="22424"/>
                  <a:pt x="7574" y="22457"/>
                </a:cubicBezTo>
                <a:cubicBezTo>
                  <a:pt x="7556" y="22478"/>
                  <a:pt x="7505" y="22501"/>
                  <a:pt x="7474" y="22523"/>
                </a:cubicBezTo>
                <a:cubicBezTo>
                  <a:pt x="7449" y="22541"/>
                  <a:pt x="7426" y="22569"/>
                  <a:pt x="7375" y="22589"/>
                </a:cubicBezTo>
                <a:cubicBezTo>
                  <a:pt x="7334" y="22605"/>
                  <a:pt x="7320" y="22623"/>
                  <a:pt x="7276" y="22622"/>
                </a:cubicBezTo>
                <a:cubicBezTo>
                  <a:pt x="7211" y="22620"/>
                  <a:pt x="7202" y="22600"/>
                  <a:pt x="7177" y="22589"/>
                </a:cubicBezTo>
                <a:cubicBezTo>
                  <a:pt x="7134" y="22570"/>
                  <a:pt x="7143" y="22512"/>
                  <a:pt x="7111" y="22490"/>
                </a:cubicBezTo>
                <a:cubicBezTo>
                  <a:pt x="7073" y="22464"/>
                  <a:pt x="7068" y="22440"/>
                  <a:pt x="7045" y="22423"/>
                </a:cubicBezTo>
                <a:cubicBezTo>
                  <a:pt x="7009" y="22397"/>
                  <a:pt x="6974" y="22419"/>
                  <a:pt x="6945" y="22390"/>
                </a:cubicBezTo>
                <a:cubicBezTo>
                  <a:pt x="6904" y="22349"/>
                  <a:pt x="6906" y="22318"/>
                  <a:pt x="6879" y="22291"/>
                </a:cubicBezTo>
                <a:cubicBezTo>
                  <a:pt x="6842" y="22254"/>
                  <a:pt x="6825" y="22291"/>
                  <a:pt x="6780" y="22225"/>
                </a:cubicBezTo>
                <a:cubicBezTo>
                  <a:pt x="6757" y="22192"/>
                  <a:pt x="6763" y="22156"/>
                  <a:pt x="6747" y="22126"/>
                </a:cubicBezTo>
                <a:cubicBezTo>
                  <a:pt x="6740" y="22112"/>
                  <a:pt x="6700" y="22064"/>
                  <a:pt x="6681" y="22027"/>
                </a:cubicBezTo>
                <a:cubicBezTo>
                  <a:pt x="6658" y="21980"/>
                  <a:pt x="6667" y="21966"/>
                  <a:pt x="6648" y="21927"/>
                </a:cubicBezTo>
                <a:cubicBezTo>
                  <a:pt x="6628" y="21887"/>
                  <a:pt x="6638" y="21878"/>
                  <a:pt x="6615" y="21828"/>
                </a:cubicBezTo>
                <a:cubicBezTo>
                  <a:pt x="6595" y="21785"/>
                  <a:pt x="6603" y="21784"/>
                  <a:pt x="6582" y="21729"/>
                </a:cubicBezTo>
                <a:cubicBezTo>
                  <a:pt x="6581" y="21725"/>
                  <a:pt x="6528" y="21660"/>
                  <a:pt x="6515" y="21630"/>
                </a:cubicBezTo>
                <a:cubicBezTo>
                  <a:pt x="6497" y="21589"/>
                  <a:pt x="6495" y="21572"/>
                  <a:pt x="6482" y="21530"/>
                </a:cubicBezTo>
                <a:cubicBezTo>
                  <a:pt x="6467" y="21484"/>
                  <a:pt x="6463" y="21446"/>
                  <a:pt x="6449" y="21398"/>
                </a:cubicBezTo>
                <a:cubicBezTo>
                  <a:pt x="6435" y="21349"/>
                  <a:pt x="6431" y="21363"/>
                  <a:pt x="6416" y="21299"/>
                </a:cubicBezTo>
                <a:cubicBezTo>
                  <a:pt x="6406" y="21256"/>
                  <a:pt x="6393" y="21243"/>
                  <a:pt x="6383" y="21200"/>
                </a:cubicBezTo>
                <a:cubicBezTo>
                  <a:pt x="6372" y="21153"/>
                  <a:pt x="6351" y="21041"/>
                  <a:pt x="6350" y="21034"/>
                </a:cubicBezTo>
                <a:cubicBezTo>
                  <a:pt x="6341" y="20991"/>
                  <a:pt x="6323" y="20979"/>
                  <a:pt x="6317" y="20935"/>
                </a:cubicBezTo>
                <a:cubicBezTo>
                  <a:pt x="6305" y="20852"/>
                  <a:pt x="6287" y="20673"/>
                  <a:pt x="6284" y="20638"/>
                </a:cubicBezTo>
                <a:cubicBezTo>
                  <a:pt x="6278" y="20557"/>
                  <a:pt x="6258" y="20441"/>
                  <a:pt x="6251" y="20406"/>
                </a:cubicBezTo>
                <a:cubicBezTo>
                  <a:pt x="6238" y="20340"/>
                  <a:pt x="6223" y="20307"/>
                  <a:pt x="6218" y="20241"/>
                </a:cubicBezTo>
                <a:cubicBezTo>
                  <a:pt x="6193" y="19923"/>
                  <a:pt x="6201" y="19515"/>
                  <a:pt x="6185" y="19248"/>
                </a:cubicBezTo>
                <a:cubicBezTo>
                  <a:pt x="6153" y="18711"/>
                  <a:pt x="6227" y="18143"/>
                  <a:pt x="6152" y="17628"/>
                </a:cubicBezTo>
                <a:cubicBezTo>
                  <a:pt x="6140" y="17547"/>
                  <a:pt x="6133" y="17476"/>
                  <a:pt x="6118" y="17396"/>
                </a:cubicBezTo>
                <a:cubicBezTo>
                  <a:pt x="6099" y="17297"/>
                  <a:pt x="6073" y="17228"/>
                  <a:pt x="6052" y="17132"/>
                </a:cubicBezTo>
                <a:cubicBezTo>
                  <a:pt x="6037" y="17066"/>
                  <a:pt x="6025" y="17001"/>
                  <a:pt x="6019" y="16933"/>
                </a:cubicBezTo>
                <a:cubicBezTo>
                  <a:pt x="6013" y="16870"/>
                  <a:pt x="5989" y="16753"/>
                  <a:pt x="5986" y="16735"/>
                </a:cubicBezTo>
                <a:cubicBezTo>
                  <a:pt x="5974" y="16670"/>
                  <a:pt x="5963" y="16627"/>
                  <a:pt x="5953" y="16570"/>
                </a:cubicBezTo>
                <a:cubicBezTo>
                  <a:pt x="5944" y="16518"/>
                  <a:pt x="5923" y="16410"/>
                  <a:pt x="5920" y="16371"/>
                </a:cubicBezTo>
                <a:cubicBezTo>
                  <a:pt x="5909" y="16230"/>
                  <a:pt x="5868" y="16094"/>
                  <a:pt x="5854" y="15974"/>
                </a:cubicBezTo>
                <a:cubicBezTo>
                  <a:pt x="5842" y="15870"/>
                  <a:pt x="5836" y="15776"/>
                  <a:pt x="5821" y="15677"/>
                </a:cubicBezTo>
                <a:cubicBezTo>
                  <a:pt x="5812" y="15621"/>
                  <a:pt x="5798" y="15568"/>
                  <a:pt x="5788" y="15511"/>
                </a:cubicBezTo>
                <a:cubicBezTo>
                  <a:pt x="5780" y="15466"/>
                  <a:pt x="5756" y="15351"/>
                  <a:pt x="5755" y="15346"/>
                </a:cubicBezTo>
                <a:cubicBezTo>
                  <a:pt x="5744" y="15292"/>
                  <a:pt x="5729" y="15269"/>
                  <a:pt x="5722" y="15214"/>
                </a:cubicBezTo>
                <a:cubicBezTo>
                  <a:pt x="5714" y="15149"/>
                  <a:pt x="5690" y="14999"/>
                  <a:pt x="5689" y="14982"/>
                </a:cubicBezTo>
                <a:cubicBezTo>
                  <a:pt x="5673" y="14779"/>
                  <a:pt x="5687" y="14572"/>
                  <a:pt x="5655" y="14387"/>
                </a:cubicBezTo>
                <a:cubicBezTo>
                  <a:pt x="5648" y="14348"/>
                  <a:pt x="5633" y="14271"/>
                  <a:pt x="5622" y="14221"/>
                </a:cubicBezTo>
                <a:cubicBezTo>
                  <a:pt x="5611" y="14170"/>
                  <a:pt x="5598" y="14136"/>
                  <a:pt x="5589" y="14089"/>
                </a:cubicBezTo>
              </a:path>
            </a:pathLst>
          </a:custGeom>
          <a:noFill/>
          <a:ln cap="rnd" w="1908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0" y="4419720"/>
            <a:ext cx="5867280" cy="3970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3" name="Object 2"/>
              <p:cNvSpPr txBox="1"/>
              <p:nvPr/>
            </p:nvSpPr>
            <p:spPr>
              <a:xfrm>
                <a:off x="1760400" y="0"/>
                <a:ext cx="389916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Text Box 6"/>
          <p:cNvSpPr/>
          <p:nvPr/>
        </p:nvSpPr>
        <p:spPr>
          <a:xfrm>
            <a:off x="0" y="9907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xis of Sym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8"/>
              <p:cNvSpPr txBox="1"/>
              <p:nvPr/>
            </p:nvSpPr>
            <p:spPr>
              <a:xfrm>
                <a:off x="-15840" y="2054160"/>
                <a:ext cx="13572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Text Box 13"/>
          <p:cNvSpPr/>
          <p:nvPr/>
        </p:nvSpPr>
        <p:spPr>
          <a:xfrm>
            <a:off x="1981080" y="205740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2, 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2058840" y="144792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rt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0" y="3049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3240" y="274320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1601280" y="2743200"/>
            <a:ext cx="19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 ver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4"/>
          <p:cNvSpPr/>
          <p:nvPr/>
        </p:nvSpPr>
        <p:spPr>
          <a:xfrm>
            <a:off x="3135240" y="1295280"/>
            <a:ext cx="372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termine at 2 other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419720" y="2362320"/>
          <a:ext cx="1143000" cy="1569960"/>
        </p:xfrm>
        <a:graphic>
          <a:graphicData uri="http://schemas.openxmlformats.org/drawingml/2006/table">
            <a:tbl>
              <a:tblPr/>
              <a:tblGrid>
                <a:gridCol w="533160"/>
                <a:gridCol w="609840"/>
              </a:tblGrid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Line 59"/>
          <p:cNvSpPr/>
          <p:nvPr/>
        </p:nvSpPr>
        <p:spPr>
          <a:xfrm>
            <a:off x="457200" y="3200400"/>
            <a:ext cx="1066680" cy="8380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60"/>
          <p:cNvSpPr/>
          <p:nvPr/>
        </p:nvSpPr>
        <p:spPr>
          <a:xfrm>
            <a:off x="2514600" y="3124080"/>
            <a:ext cx="0" cy="838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Donut 39"/>
          <p:cNvSpPr/>
          <p:nvPr/>
        </p:nvSpPr>
        <p:spPr>
          <a:xfrm>
            <a:off x="3962520" y="4952880"/>
            <a:ext cx="152280" cy="304920"/>
          </a:xfrm>
          <a:custGeom>
            <a:avLst/>
            <a:gdLst>
              <a:gd name="textAreaLeft" fmla="*/ 22320 w 152280"/>
              <a:gd name="textAreaRight" fmla="*/ 129960 w 152280"/>
              <a:gd name="textAreaTop" fmla="*/ 44640 h 304920"/>
              <a:gd name="textAreaBottom" fmla="*/ 260280 h 304920"/>
            </a:gdLst>
            <a:ahLst/>
            <a:rect l="textAreaLeft" t="textAreaTop" r="textAreaRight" b="textAreaBottom"/>
            <a:pathLst>
              <a:path w="152400" h="304800">
                <a:moveTo>
                  <a:pt x="0" y="152400"/>
                </a:moveTo>
                <a:lnTo>
                  <a:pt x="0" y="152400"/>
                </a:lnTo>
                <a:arcTo wR="76200" hR="152400" stAng="10800000" swAng="5400000"/>
                <a:lnTo>
                  <a:pt x="76200" y="0"/>
                </a:lnTo>
                <a:arcTo wR="76200" hR="152400" stAng="-5400000" swAng="5400000"/>
                <a:lnTo>
                  <a:pt x="152400" y="152400"/>
                </a:lnTo>
                <a:arcTo wR="76200" hR="152400" stAng="0" swAng="5400000"/>
                <a:lnTo>
                  <a:pt x="76200" y="304800"/>
                </a:lnTo>
                <a:arcTo wR="76200" hR="152400" stAng="5400000" swAng="5400000"/>
                <a:close/>
                <a:moveTo>
                  <a:pt x="38100" y="152400"/>
                </a:moveTo>
                <a:lnTo>
                  <a:pt x="38100" y="152400"/>
                </a:lnTo>
                <a:arcTo wR="38100" hR="114300" stAng="10800000" swAng="-5400000"/>
                <a:lnTo>
                  <a:pt x="76200" y="266700"/>
                </a:lnTo>
                <a:arcTo wR="38100" hR="114300" stAng="5400000" swAng="-5400000"/>
                <a:lnTo>
                  <a:pt x="114300" y="152400"/>
                </a:lnTo>
                <a:arcTo wR="38100" hR="114300" stAng="0" swAng="-5400000"/>
                <a:lnTo>
                  <a:pt x="76200" y="38100"/>
                </a:lnTo>
                <a:arcTo wR="38100" hR="114300" stAng="-5400000" swAng="-5400000"/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40"/>
          <p:cNvSpPr/>
          <p:nvPr/>
        </p:nvSpPr>
        <p:spPr>
          <a:xfrm>
            <a:off x="2819520" y="6781680"/>
            <a:ext cx="182520" cy="18252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62"/>
          <p:cNvSpPr/>
          <p:nvPr/>
        </p:nvSpPr>
        <p:spPr>
          <a:xfrm flipH="1">
            <a:off x="3504960" y="3733920"/>
            <a:ext cx="1143000" cy="19047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62"/>
          <p:cNvSpPr/>
          <p:nvPr/>
        </p:nvSpPr>
        <p:spPr>
          <a:xfrm>
            <a:off x="2971800" y="6858000"/>
            <a:ext cx="213372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43"/>
          <p:cNvSpPr/>
          <p:nvPr/>
        </p:nvSpPr>
        <p:spPr>
          <a:xfrm flipH="1">
            <a:off x="5028480" y="6781680"/>
            <a:ext cx="182520" cy="18252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44"/>
          <p:cNvSpPr/>
          <p:nvPr/>
        </p:nvSpPr>
        <p:spPr>
          <a:xfrm>
            <a:off x="3429000" y="5486400"/>
            <a:ext cx="182520" cy="18252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45"/>
          <p:cNvSpPr/>
          <p:nvPr/>
        </p:nvSpPr>
        <p:spPr>
          <a:xfrm>
            <a:off x="4419720" y="5486400"/>
            <a:ext cx="182520" cy="18252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62"/>
          <p:cNvSpPr/>
          <p:nvPr/>
        </p:nvSpPr>
        <p:spPr>
          <a:xfrm>
            <a:off x="3581280" y="5562720"/>
            <a:ext cx="91440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2"/>
          <p:cNvSpPr/>
          <p:nvPr/>
        </p:nvSpPr>
        <p:spPr>
          <a:xfrm flipH="1">
            <a:off x="3047760" y="3124080"/>
            <a:ext cx="1523880" cy="36576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Straight Arrow Connector 36"/>
          <p:cNvCxnSpPr/>
          <p:nvPr/>
        </p:nvCxnSpPr>
        <p:spPr>
          <a:xfrm flipH="1">
            <a:off x="4037760" y="4266720"/>
            <a:ext cx="2520" cy="3582360"/>
          </a:xfrm>
          <a:prstGeom prst="straightConnector1">
            <a:avLst/>
          </a:prstGeom>
          <a:ln w="38160">
            <a:solidFill>
              <a:srgbClr val="008000"/>
            </a:solidFill>
            <a:miter/>
            <a:headEnd len="med" type="arrow" w="med"/>
            <a:tailEnd len="med" type="arrow" w="med"/>
          </a:ln>
        </p:spPr>
      </p:cxnSp>
      <p:sp>
        <p:nvSpPr>
          <p:cNvPr id="155" name="Ink 68"/>
          <p:cNvSpPr/>
          <p:nvPr/>
        </p:nvSpPr>
        <p:spPr>
          <a:xfrm>
            <a:off x="3011400" y="73231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367" y="20340"/>
                </a:moveTo>
                <a:lnTo>
                  <a:pt x="8367" y="20340"/>
                </a:lnTo>
              </a:path>
            </a:pathLst>
          </a:custGeom>
          <a:noFill/>
          <a:ln cap="rnd" w="1908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Ink 7"/>
          <p:cNvSpPr/>
          <p:nvPr/>
        </p:nvSpPr>
        <p:spPr>
          <a:xfrm>
            <a:off x="2417760" y="5143680"/>
            <a:ext cx="3166920" cy="2666880"/>
          </a:xfrm>
          <a:custGeom>
            <a:avLst/>
            <a:gdLst/>
            <a:ahLst/>
            <a:rect l="l" t="t" r="r" b="b"/>
            <a:pathLst>
              <a:path w="8798" h="7409">
                <a:moveTo>
                  <a:pt x="11278" y="14288"/>
                </a:moveTo>
                <a:cubicBezTo>
                  <a:pt x="11267" y="14288"/>
                  <a:pt x="11256" y="14288"/>
                  <a:pt x="11245" y="14288"/>
                </a:cubicBezTo>
                <a:cubicBezTo>
                  <a:pt x="11220" y="14309"/>
                  <a:pt x="11181" y="14356"/>
                  <a:pt x="11146" y="14387"/>
                </a:cubicBezTo>
                <a:cubicBezTo>
                  <a:pt x="11134" y="14398"/>
                  <a:pt x="11087" y="14446"/>
                  <a:pt x="11079" y="14453"/>
                </a:cubicBezTo>
                <a:cubicBezTo>
                  <a:pt x="11015" y="14469"/>
                  <a:pt x="11048" y="14460"/>
                  <a:pt x="11013" y="14486"/>
                </a:cubicBezTo>
                <a:cubicBezTo>
                  <a:pt x="10971" y="14511"/>
                  <a:pt x="10978" y="14510"/>
                  <a:pt x="10914" y="14519"/>
                </a:cubicBezTo>
                <a:cubicBezTo>
                  <a:pt x="10905" y="14555"/>
                  <a:pt x="10902" y="14558"/>
                  <a:pt x="10881" y="14585"/>
                </a:cubicBezTo>
                <a:cubicBezTo>
                  <a:pt x="10839" y="14610"/>
                  <a:pt x="10846" y="14609"/>
                  <a:pt x="10782" y="14618"/>
                </a:cubicBezTo>
                <a:cubicBezTo>
                  <a:pt x="10753" y="14640"/>
                  <a:pt x="10736" y="14695"/>
                  <a:pt x="10683" y="14717"/>
                </a:cubicBezTo>
                <a:cubicBezTo>
                  <a:pt x="10672" y="14717"/>
                  <a:pt x="10660" y="14717"/>
                  <a:pt x="10649" y="14717"/>
                </a:cubicBezTo>
                <a:cubicBezTo>
                  <a:pt x="10640" y="14755"/>
                  <a:pt x="10637" y="14756"/>
                  <a:pt x="10616" y="14784"/>
                </a:cubicBezTo>
                <a:cubicBezTo>
                  <a:pt x="10580" y="14791"/>
                  <a:pt x="10550" y="14803"/>
                  <a:pt x="10517" y="14817"/>
                </a:cubicBezTo>
                <a:cubicBezTo>
                  <a:pt x="10485" y="14836"/>
                  <a:pt x="10485" y="14840"/>
                  <a:pt x="10418" y="14850"/>
                </a:cubicBezTo>
                <a:cubicBezTo>
                  <a:pt x="10409" y="14886"/>
                  <a:pt x="10406" y="14889"/>
                  <a:pt x="10385" y="14916"/>
                </a:cubicBezTo>
                <a:cubicBezTo>
                  <a:pt x="10358" y="14943"/>
                  <a:pt x="10322" y="14936"/>
                  <a:pt x="10286" y="14982"/>
                </a:cubicBezTo>
                <a:cubicBezTo>
                  <a:pt x="10286" y="14993"/>
                  <a:pt x="10286" y="15004"/>
                  <a:pt x="10286" y="15015"/>
                </a:cubicBezTo>
                <a:cubicBezTo>
                  <a:pt x="10222" y="15031"/>
                  <a:pt x="10255" y="15022"/>
                  <a:pt x="10220" y="15048"/>
                </a:cubicBezTo>
                <a:cubicBezTo>
                  <a:pt x="10187" y="15070"/>
                  <a:pt x="10170" y="15087"/>
                  <a:pt x="10120" y="15114"/>
                </a:cubicBezTo>
                <a:cubicBezTo>
                  <a:pt x="10090" y="15144"/>
                  <a:pt x="10084" y="15155"/>
                  <a:pt x="10054" y="15147"/>
                </a:cubicBezTo>
                <a:cubicBezTo>
                  <a:pt x="10033" y="15178"/>
                  <a:pt x="10012" y="15202"/>
                  <a:pt x="9988" y="15247"/>
                </a:cubicBezTo>
                <a:cubicBezTo>
                  <a:pt x="9958" y="15277"/>
                  <a:pt x="9947" y="15283"/>
                  <a:pt x="9955" y="15313"/>
                </a:cubicBezTo>
                <a:cubicBezTo>
                  <a:pt x="9936" y="15334"/>
                  <a:pt x="9887" y="15368"/>
                  <a:pt x="9856" y="15412"/>
                </a:cubicBezTo>
                <a:cubicBezTo>
                  <a:pt x="9826" y="15442"/>
                  <a:pt x="9815" y="15448"/>
                  <a:pt x="9823" y="15478"/>
                </a:cubicBezTo>
                <a:cubicBezTo>
                  <a:pt x="9786" y="15485"/>
                  <a:pt x="9756" y="15497"/>
                  <a:pt x="9723" y="15511"/>
                </a:cubicBezTo>
                <a:cubicBezTo>
                  <a:pt x="9704" y="15559"/>
                  <a:pt x="9678" y="15585"/>
                  <a:pt x="9657" y="15610"/>
                </a:cubicBezTo>
                <a:cubicBezTo>
                  <a:pt x="9639" y="15636"/>
                  <a:pt x="9567" y="15725"/>
                  <a:pt x="9558" y="15743"/>
                </a:cubicBezTo>
                <a:cubicBezTo>
                  <a:pt x="9558" y="15754"/>
                  <a:pt x="9558" y="15765"/>
                  <a:pt x="9558" y="15776"/>
                </a:cubicBezTo>
                <a:cubicBezTo>
                  <a:pt x="9544" y="15795"/>
                  <a:pt x="9484" y="15832"/>
                  <a:pt x="9459" y="15875"/>
                </a:cubicBezTo>
                <a:cubicBezTo>
                  <a:pt x="9459" y="15886"/>
                  <a:pt x="9459" y="15897"/>
                  <a:pt x="9459" y="15908"/>
                </a:cubicBezTo>
                <a:cubicBezTo>
                  <a:pt x="9413" y="15938"/>
                  <a:pt x="9437" y="15908"/>
                  <a:pt x="9426" y="15974"/>
                </a:cubicBezTo>
                <a:cubicBezTo>
                  <a:pt x="9376" y="15999"/>
                  <a:pt x="9389" y="15997"/>
                  <a:pt x="9360" y="16040"/>
                </a:cubicBezTo>
                <a:cubicBezTo>
                  <a:pt x="9347" y="16057"/>
                  <a:pt x="9278" y="16110"/>
                  <a:pt x="9260" y="16140"/>
                </a:cubicBezTo>
                <a:cubicBezTo>
                  <a:pt x="9260" y="16151"/>
                  <a:pt x="9260" y="16162"/>
                  <a:pt x="9260" y="16173"/>
                </a:cubicBezTo>
                <a:cubicBezTo>
                  <a:pt x="9233" y="16195"/>
                  <a:pt x="9202" y="16216"/>
                  <a:pt x="9161" y="16239"/>
                </a:cubicBezTo>
                <a:cubicBezTo>
                  <a:pt x="9145" y="16303"/>
                  <a:pt x="9154" y="16270"/>
                  <a:pt x="9128" y="16305"/>
                </a:cubicBezTo>
                <a:cubicBezTo>
                  <a:pt x="9108" y="16346"/>
                  <a:pt x="9082" y="16396"/>
                  <a:pt x="9062" y="16437"/>
                </a:cubicBezTo>
                <a:cubicBezTo>
                  <a:pt x="9016" y="16467"/>
                  <a:pt x="9040" y="16437"/>
                  <a:pt x="9029" y="16503"/>
                </a:cubicBezTo>
                <a:cubicBezTo>
                  <a:pt x="9007" y="16532"/>
                  <a:pt x="8952" y="16549"/>
                  <a:pt x="8930" y="16603"/>
                </a:cubicBezTo>
                <a:cubicBezTo>
                  <a:pt x="8930" y="16614"/>
                  <a:pt x="8930" y="16625"/>
                  <a:pt x="8930" y="16636"/>
                </a:cubicBezTo>
                <a:cubicBezTo>
                  <a:pt x="8884" y="16666"/>
                  <a:pt x="8908" y="16636"/>
                  <a:pt x="8897" y="16702"/>
                </a:cubicBezTo>
                <a:cubicBezTo>
                  <a:pt x="8872" y="16729"/>
                  <a:pt x="8823" y="16766"/>
                  <a:pt x="8797" y="16801"/>
                </a:cubicBezTo>
                <a:cubicBezTo>
                  <a:pt x="8764" y="16845"/>
                  <a:pt x="8724" y="16896"/>
                  <a:pt x="8698" y="16933"/>
                </a:cubicBezTo>
                <a:cubicBezTo>
                  <a:pt x="8677" y="16954"/>
                  <a:pt x="8624" y="17007"/>
                  <a:pt x="8599" y="17033"/>
                </a:cubicBezTo>
                <a:cubicBezTo>
                  <a:pt x="8588" y="17058"/>
                  <a:pt x="8581" y="17147"/>
                  <a:pt x="8566" y="17165"/>
                </a:cubicBezTo>
                <a:cubicBezTo>
                  <a:pt x="8536" y="17195"/>
                  <a:pt x="8530" y="17206"/>
                  <a:pt x="8500" y="17198"/>
                </a:cubicBezTo>
                <a:cubicBezTo>
                  <a:pt x="8484" y="17262"/>
                  <a:pt x="8493" y="17229"/>
                  <a:pt x="8467" y="17264"/>
                </a:cubicBezTo>
                <a:cubicBezTo>
                  <a:pt x="8446" y="17332"/>
                  <a:pt x="8420" y="17394"/>
                  <a:pt x="8401" y="17463"/>
                </a:cubicBezTo>
                <a:cubicBezTo>
                  <a:pt x="8388" y="17510"/>
                  <a:pt x="8380" y="17545"/>
                  <a:pt x="8367" y="17595"/>
                </a:cubicBezTo>
                <a:cubicBezTo>
                  <a:pt x="8367" y="17606"/>
                  <a:pt x="8367" y="17617"/>
                  <a:pt x="8367" y="17628"/>
                </a:cubicBezTo>
                <a:cubicBezTo>
                  <a:pt x="8353" y="17654"/>
                  <a:pt x="8320" y="17677"/>
                  <a:pt x="8301" y="17727"/>
                </a:cubicBezTo>
                <a:cubicBezTo>
                  <a:pt x="8284" y="17771"/>
                  <a:pt x="8284" y="17813"/>
                  <a:pt x="8268" y="17859"/>
                </a:cubicBezTo>
                <a:cubicBezTo>
                  <a:pt x="8252" y="17906"/>
                  <a:pt x="8217" y="17942"/>
                  <a:pt x="8202" y="17992"/>
                </a:cubicBezTo>
                <a:cubicBezTo>
                  <a:pt x="8202" y="18003"/>
                  <a:pt x="8202" y="18014"/>
                  <a:pt x="8202" y="18025"/>
                </a:cubicBezTo>
                <a:cubicBezTo>
                  <a:pt x="8188" y="18053"/>
                  <a:pt x="8174" y="18059"/>
                  <a:pt x="8169" y="18124"/>
                </a:cubicBezTo>
                <a:cubicBezTo>
                  <a:pt x="8169" y="18135"/>
                  <a:pt x="8169" y="18146"/>
                  <a:pt x="8169" y="18157"/>
                </a:cubicBezTo>
                <a:cubicBezTo>
                  <a:pt x="8159" y="18178"/>
                  <a:pt x="8120" y="18209"/>
                  <a:pt x="8103" y="18256"/>
                </a:cubicBezTo>
                <a:cubicBezTo>
                  <a:pt x="8086" y="18302"/>
                  <a:pt x="8085" y="18341"/>
                  <a:pt x="8070" y="18389"/>
                </a:cubicBezTo>
                <a:cubicBezTo>
                  <a:pt x="8059" y="18425"/>
                  <a:pt x="8047" y="18447"/>
                  <a:pt x="8037" y="18488"/>
                </a:cubicBezTo>
                <a:cubicBezTo>
                  <a:pt x="8018" y="18520"/>
                  <a:pt x="8014" y="18520"/>
                  <a:pt x="8004" y="18587"/>
                </a:cubicBezTo>
                <a:cubicBezTo>
                  <a:pt x="8004" y="18588"/>
                  <a:pt x="7974" y="18641"/>
                  <a:pt x="7971" y="18686"/>
                </a:cubicBezTo>
                <a:cubicBezTo>
                  <a:pt x="7971" y="18708"/>
                  <a:pt x="7971" y="18730"/>
                  <a:pt x="7971" y="18752"/>
                </a:cubicBezTo>
                <a:cubicBezTo>
                  <a:pt x="7958" y="18794"/>
                  <a:pt x="7958" y="18812"/>
                  <a:pt x="7938" y="18852"/>
                </a:cubicBezTo>
                <a:cubicBezTo>
                  <a:pt x="7923" y="18882"/>
                  <a:pt x="7876" y="18941"/>
                  <a:pt x="7871" y="18951"/>
                </a:cubicBezTo>
                <a:cubicBezTo>
                  <a:pt x="7871" y="18984"/>
                  <a:pt x="7871" y="19017"/>
                  <a:pt x="7871" y="19050"/>
                </a:cubicBezTo>
                <a:cubicBezTo>
                  <a:pt x="7868" y="19057"/>
                  <a:pt x="7851" y="19113"/>
                  <a:pt x="7838" y="19149"/>
                </a:cubicBezTo>
                <a:cubicBezTo>
                  <a:pt x="7808" y="19179"/>
                  <a:pt x="7797" y="19185"/>
                  <a:pt x="7805" y="19215"/>
                </a:cubicBezTo>
                <a:cubicBezTo>
                  <a:pt x="7798" y="19259"/>
                  <a:pt x="7774" y="19271"/>
                  <a:pt x="7772" y="19315"/>
                </a:cubicBezTo>
                <a:cubicBezTo>
                  <a:pt x="7770" y="19359"/>
                  <a:pt x="7774" y="19403"/>
                  <a:pt x="7772" y="19447"/>
                </a:cubicBezTo>
                <a:cubicBezTo>
                  <a:pt x="7768" y="19457"/>
                  <a:pt x="7749" y="19501"/>
                  <a:pt x="7739" y="19546"/>
                </a:cubicBezTo>
                <a:cubicBezTo>
                  <a:pt x="7728" y="19594"/>
                  <a:pt x="7717" y="19626"/>
                  <a:pt x="7706" y="19678"/>
                </a:cubicBezTo>
                <a:cubicBezTo>
                  <a:pt x="7682" y="19714"/>
                  <a:pt x="7666" y="19746"/>
                  <a:pt x="7640" y="19811"/>
                </a:cubicBezTo>
                <a:cubicBezTo>
                  <a:pt x="7621" y="19843"/>
                  <a:pt x="7617" y="19843"/>
                  <a:pt x="7607" y="19910"/>
                </a:cubicBezTo>
                <a:cubicBezTo>
                  <a:pt x="7603" y="19919"/>
                  <a:pt x="7556" y="19975"/>
                  <a:pt x="7541" y="20009"/>
                </a:cubicBezTo>
                <a:cubicBezTo>
                  <a:pt x="7523" y="20049"/>
                  <a:pt x="7528" y="20101"/>
                  <a:pt x="7508" y="20141"/>
                </a:cubicBezTo>
                <a:cubicBezTo>
                  <a:pt x="7485" y="20187"/>
                  <a:pt x="7462" y="20228"/>
                  <a:pt x="7441" y="20274"/>
                </a:cubicBezTo>
                <a:cubicBezTo>
                  <a:pt x="7413" y="20335"/>
                  <a:pt x="7378" y="20406"/>
                  <a:pt x="7342" y="20472"/>
                </a:cubicBezTo>
                <a:cubicBezTo>
                  <a:pt x="7326" y="20502"/>
                  <a:pt x="7283" y="20559"/>
                  <a:pt x="7276" y="20571"/>
                </a:cubicBezTo>
                <a:cubicBezTo>
                  <a:pt x="7256" y="20625"/>
                  <a:pt x="7228" y="20678"/>
                  <a:pt x="7210" y="20737"/>
                </a:cubicBezTo>
                <a:cubicBezTo>
                  <a:pt x="7195" y="20784"/>
                  <a:pt x="7192" y="20824"/>
                  <a:pt x="7177" y="20869"/>
                </a:cubicBezTo>
                <a:cubicBezTo>
                  <a:pt x="7170" y="20883"/>
                  <a:pt x="7158" y="20926"/>
                  <a:pt x="7144" y="20968"/>
                </a:cubicBezTo>
                <a:cubicBezTo>
                  <a:pt x="7122" y="21032"/>
                  <a:pt x="7066" y="21105"/>
                  <a:pt x="7045" y="21167"/>
                </a:cubicBezTo>
                <a:cubicBezTo>
                  <a:pt x="7045" y="21178"/>
                  <a:pt x="7045" y="21189"/>
                  <a:pt x="7045" y="21200"/>
                </a:cubicBezTo>
                <a:cubicBezTo>
                  <a:pt x="7034" y="21217"/>
                  <a:pt x="7001" y="21260"/>
                  <a:pt x="6978" y="21299"/>
                </a:cubicBezTo>
                <a:cubicBezTo>
                  <a:pt x="6945" y="21354"/>
                  <a:pt x="6908" y="21417"/>
                  <a:pt x="6879" y="21464"/>
                </a:cubicBezTo>
                <a:cubicBezTo>
                  <a:pt x="6868" y="21480"/>
                  <a:pt x="6834" y="21535"/>
                  <a:pt x="6813" y="21564"/>
                </a:cubicBezTo>
                <a:cubicBezTo>
                  <a:pt x="6778" y="21614"/>
                  <a:pt x="6740" y="21661"/>
                  <a:pt x="6714" y="21696"/>
                </a:cubicBezTo>
                <a:cubicBezTo>
                  <a:pt x="6714" y="21663"/>
                  <a:pt x="6714" y="21652"/>
                  <a:pt x="6714" y="21630"/>
                </a:cubicBezTo>
              </a:path>
              <a:path w="8798" h="7409">
                <a:moveTo>
                  <a:pt x="11013" y="14519"/>
                </a:moveTo>
                <a:cubicBezTo>
                  <a:pt x="11024" y="14519"/>
                  <a:pt x="11035" y="14519"/>
                  <a:pt x="11046" y="14519"/>
                </a:cubicBezTo>
                <a:cubicBezTo>
                  <a:pt x="11078" y="14500"/>
                  <a:pt x="11079" y="14495"/>
                  <a:pt x="11146" y="14486"/>
                </a:cubicBezTo>
                <a:cubicBezTo>
                  <a:pt x="11190" y="14480"/>
                  <a:pt x="11201" y="14454"/>
                  <a:pt x="11245" y="14453"/>
                </a:cubicBezTo>
                <a:cubicBezTo>
                  <a:pt x="11377" y="14449"/>
                  <a:pt x="11510" y="14453"/>
                  <a:pt x="11642" y="14453"/>
                </a:cubicBezTo>
                <a:cubicBezTo>
                  <a:pt x="11651" y="14489"/>
                  <a:pt x="11654" y="14492"/>
                  <a:pt x="11675" y="14519"/>
                </a:cubicBezTo>
                <a:cubicBezTo>
                  <a:pt x="11711" y="14528"/>
                  <a:pt x="11714" y="14531"/>
                  <a:pt x="11741" y="14552"/>
                </a:cubicBezTo>
                <a:cubicBezTo>
                  <a:pt x="11757" y="14616"/>
                  <a:pt x="11748" y="14583"/>
                  <a:pt x="11774" y="14618"/>
                </a:cubicBezTo>
                <a:cubicBezTo>
                  <a:pt x="11799" y="14668"/>
                  <a:pt x="11797" y="14655"/>
                  <a:pt x="11840" y="14684"/>
                </a:cubicBezTo>
                <a:cubicBezTo>
                  <a:pt x="11855" y="14746"/>
                  <a:pt x="11848" y="14718"/>
                  <a:pt x="11873" y="14751"/>
                </a:cubicBezTo>
                <a:cubicBezTo>
                  <a:pt x="11895" y="14783"/>
                  <a:pt x="11913" y="14800"/>
                  <a:pt x="11939" y="14850"/>
                </a:cubicBezTo>
                <a:cubicBezTo>
                  <a:pt x="11969" y="14880"/>
                  <a:pt x="11980" y="14886"/>
                  <a:pt x="11972" y="14916"/>
                </a:cubicBezTo>
                <a:cubicBezTo>
                  <a:pt x="11994" y="14937"/>
                  <a:pt x="12033" y="14976"/>
                  <a:pt x="12072" y="15015"/>
                </a:cubicBezTo>
                <a:cubicBezTo>
                  <a:pt x="12108" y="15050"/>
                  <a:pt x="12143" y="15086"/>
                  <a:pt x="12171" y="15114"/>
                </a:cubicBezTo>
                <a:cubicBezTo>
                  <a:pt x="12208" y="15178"/>
                  <a:pt x="12189" y="15179"/>
                  <a:pt x="12237" y="15247"/>
                </a:cubicBezTo>
                <a:cubicBezTo>
                  <a:pt x="12272" y="15297"/>
                  <a:pt x="12302" y="15334"/>
                  <a:pt x="12336" y="15379"/>
                </a:cubicBezTo>
                <a:cubicBezTo>
                  <a:pt x="12375" y="15430"/>
                  <a:pt x="12402" y="15462"/>
                  <a:pt x="12435" y="15511"/>
                </a:cubicBezTo>
                <a:cubicBezTo>
                  <a:pt x="12465" y="15541"/>
                  <a:pt x="12476" y="15547"/>
                  <a:pt x="12468" y="15577"/>
                </a:cubicBezTo>
                <a:cubicBezTo>
                  <a:pt x="12487" y="15601"/>
                  <a:pt x="12511" y="15634"/>
                  <a:pt x="12535" y="15677"/>
                </a:cubicBezTo>
                <a:cubicBezTo>
                  <a:pt x="12591" y="15723"/>
                  <a:pt x="12579" y="15699"/>
                  <a:pt x="12601" y="15776"/>
                </a:cubicBezTo>
                <a:cubicBezTo>
                  <a:pt x="12623" y="15805"/>
                  <a:pt x="12678" y="15822"/>
                  <a:pt x="12700" y="15875"/>
                </a:cubicBezTo>
                <a:cubicBezTo>
                  <a:pt x="12700" y="15886"/>
                  <a:pt x="12700" y="15897"/>
                  <a:pt x="12700" y="15908"/>
                </a:cubicBezTo>
                <a:cubicBezTo>
                  <a:pt x="12714" y="15927"/>
                  <a:pt x="12771" y="15966"/>
                  <a:pt x="12799" y="16007"/>
                </a:cubicBezTo>
                <a:cubicBezTo>
                  <a:pt x="12823" y="16043"/>
                  <a:pt x="12871" y="16097"/>
                  <a:pt x="12898" y="16140"/>
                </a:cubicBezTo>
                <a:cubicBezTo>
                  <a:pt x="12898" y="16151"/>
                  <a:pt x="12898" y="16162"/>
                  <a:pt x="12898" y="16173"/>
                </a:cubicBezTo>
                <a:cubicBezTo>
                  <a:pt x="12938" y="16218"/>
                  <a:pt x="12987" y="16227"/>
                  <a:pt x="13031" y="16305"/>
                </a:cubicBezTo>
                <a:cubicBezTo>
                  <a:pt x="13046" y="16331"/>
                  <a:pt x="13050" y="16377"/>
                  <a:pt x="13064" y="16404"/>
                </a:cubicBezTo>
                <a:cubicBezTo>
                  <a:pt x="13088" y="16438"/>
                  <a:pt x="13161" y="16514"/>
                  <a:pt x="13196" y="16570"/>
                </a:cubicBezTo>
                <a:cubicBezTo>
                  <a:pt x="13218" y="16605"/>
                  <a:pt x="13242" y="16662"/>
                  <a:pt x="13262" y="16702"/>
                </a:cubicBezTo>
                <a:cubicBezTo>
                  <a:pt x="13300" y="16740"/>
                  <a:pt x="13311" y="16757"/>
                  <a:pt x="13295" y="16801"/>
                </a:cubicBezTo>
                <a:cubicBezTo>
                  <a:pt x="13307" y="16819"/>
                  <a:pt x="13343" y="16857"/>
                  <a:pt x="13361" y="16900"/>
                </a:cubicBezTo>
                <a:cubicBezTo>
                  <a:pt x="13399" y="16937"/>
                  <a:pt x="13411" y="16955"/>
                  <a:pt x="13395" y="16999"/>
                </a:cubicBezTo>
                <a:cubicBezTo>
                  <a:pt x="13408" y="17021"/>
                  <a:pt x="13474" y="17087"/>
                  <a:pt x="13494" y="17132"/>
                </a:cubicBezTo>
                <a:cubicBezTo>
                  <a:pt x="13524" y="17199"/>
                  <a:pt x="13533" y="17262"/>
                  <a:pt x="13560" y="17330"/>
                </a:cubicBezTo>
                <a:cubicBezTo>
                  <a:pt x="13579" y="17362"/>
                  <a:pt x="13583" y="17362"/>
                  <a:pt x="13593" y="17429"/>
                </a:cubicBezTo>
                <a:cubicBezTo>
                  <a:pt x="13599" y="17443"/>
                  <a:pt x="13648" y="17481"/>
                  <a:pt x="13659" y="17529"/>
                </a:cubicBezTo>
                <a:cubicBezTo>
                  <a:pt x="13659" y="17551"/>
                  <a:pt x="13659" y="17573"/>
                  <a:pt x="13659" y="17595"/>
                </a:cubicBezTo>
                <a:cubicBezTo>
                  <a:pt x="13677" y="17618"/>
                  <a:pt x="13701" y="17653"/>
                  <a:pt x="13725" y="17694"/>
                </a:cubicBezTo>
                <a:cubicBezTo>
                  <a:pt x="13755" y="17724"/>
                  <a:pt x="13751" y="17729"/>
                  <a:pt x="13758" y="17793"/>
                </a:cubicBezTo>
                <a:cubicBezTo>
                  <a:pt x="13789" y="17809"/>
                  <a:pt x="13811" y="17839"/>
                  <a:pt x="13824" y="17859"/>
                </a:cubicBezTo>
                <a:cubicBezTo>
                  <a:pt x="13838" y="17921"/>
                  <a:pt x="13841" y="17963"/>
                  <a:pt x="13858" y="18025"/>
                </a:cubicBezTo>
                <a:cubicBezTo>
                  <a:pt x="13869" y="18064"/>
                  <a:pt x="13882" y="18084"/>
                  <a:pt x="13891" y="18124"/>
                </a:cubicBezTo>
                <a:cubicBezTo>
                  <a:pt x="13903" y="18143"/>
                  <a:pt x="13966" y="18208"/>
                  <a:pt x="13990" y="18256"/>
                </a:cubicBezTo>
                <a:cubicBezTo>
                  <a:pt x="14015" y="18305"/>
                  <a:pt x="14031" y="18364"/>
                  <a:pt x="14056" y="18422"/>
                </a:cubicBezTo>
                <a:cubicBezTo>
                  <a:pt x="14085" y="18489"/>
                  <a:pt x="14128" y="18552"/>
                  <a:pt x="14155" y="18620"/>
                </a:cubicBezTo>
                <a:cubicBezTo>
                  <a:pt x="14172" y="18662"/>
                  <a:pt x="14171" y="18709"/>
                  <a:pt x="14188" y="18752"/>
                </a:cubicBezTo>
                <a:cubicBezTo>
                  <a:pt x="14209" y="18773"/>
                  <a:pt x="14262" y="18826"/>
                  <a:pt x="14288" y="18852"/>
                </a:cubicBezTo>
                <a:cubicBezTo>
                  <a:pt x="14305" y="18901"/>
                  <a:pt x="14299" y="18968"/>
                  <a:pt x="14321" y="19017"/>
                </a:cubicBezTo>
                <a:cubicBezTo>
                  <a:pt x="14350" y="19082"/>
                  <a:pt x="14393" y="19141"/>
                  <a:pt x="14420" y="19215"/>
                </a:cubicBezTo>
                <a:cubicBezTo>
                  <a:pt x="14443" y="19280"/>
                  <a:pt x="14461" y="19342"/>
                  <a:pt x="14486" y="19414"/>
                </a:cubicBezTo>
                <a:cubicBezTo>
                  <a:pt x="14505" y="19468"/>
                  <a:pt x="14530" y="19494"/>
                  <a:pt x="14552" y="19546"/>
                </a:cubicBezTo>
                <a:cubicBezTo>
                  <a:pt x="14583" y="19618"/>
                  <a:pt x="14613" y="19697"/>
                  <a:pt x="14651" y="19778"/>
                </a:cubicBezTo>
                <a:cubicBezTo>
                  <a:pt x="14680" y="19841"/>
                  <a:pt x="14690" y="19887"/>
                  <a:pt x="14717" y="19943"/>
                </a:cubicBezTo>
                <a:cubicBezTo>
                  <a:pt x="14763" y="20039"/>
                  <a:pt x="14807" y="20140"/>
                  <a:pt x="14850" y="20241"/>
                </a:cubicBezTo>
                <a:cubicBezTo>
                  <a:pt x="14880" y="20313"/>
                  <a:pt x="14910" y="20392"/>
                  <a:pt x="14949" y="20472"/>
                </a:cubicBezTo>
                <a:cubicBezTo>
                  <a:pt x="14987" y="20549"/>
                  <a:pt x="15044" y="20623"/>
                  <a:pt x="15081" y="20704"/>
                </a:cubicBezTo>
                <a:cubicBezTo>
                  <a:pt x="15112" y="20773"/>
                  <a:pt x="15152" y="20840"/>
                  <a:pt x="15180" y="20902"/>
                </a:cubicBezTo>
                <a:cubicBezTo>
                  <a:pt x="15208" y="20964"/>
                  <a:pt x="15219" y="21044"/>
                  <a:pt x="15247" y="21101"/>
                </a:cubicBezTo>
                <a:cubicBezTo>
                  <a:pt x="15280" y="21167"/>
                  <a:pt x="15315" y="21232"/>
                  <a:pt x="15346" y="21299"/>
                </a:cubicBezTo>
                <a:cubicBezTo>
                  <a:pt x="15387" y="21389"/>
                  <a:pt x="15439" y="21471"/>
                  <a:pt x="15478" y="21564"/>
                </a:cubicBezTo>
                <a:cubicBezTo>
                  <a:pt x="15495" y="21605"/>
                  <a:pt x="15496" y="21655"/>
                  <a:pt x="15511" y="21696"/>
                </a:cubicBezTo>
                <a:cubicBezTo>
                  <a:pt x="15471" y="21620"/>
                  <a:pt x="15418" y="21539"/>
                  <a:pt x="15379" y="21464"/>
                </a:cubicBezTo>
              </a:path>
              <a:path w="8798" h="7409">
                <a:moveTo>
                  <a:pt x="12502" y="15478"/>
                </a:moveTo>
                <a:cubicBezTo>
                  <a:pt x="12491" y="15478"/>
                  <a:pt x="12479" y="15478"/>
                  <a:pt x="12468" y="15478"/>
                </a:cubicBezTo>
                <a:cubicBezTo>
                  <a:pt x="12457" y="15411"/>
                  <a:pt x="12461" y="15447"/>
                  <a:pt x="12435" y="15412"/>
                </a:cubicBezTo>
                <a:cubicBezTo>
                  <a:pt x="12428" y="15357"/>
                  <a:pt x="12420" y="15329"/>
                  <a:pt x="12402" y="15280"/>
                </a:cubicBezTo>
                <a:cubicBezTo>
                  <a:pt x="12375" y="15260"/>
                  <a:pt x="12363" y="15267"/>
                  <a:pt x="12336" y="15247"/>
                </a:cubicBezTo>
                <a:cubicBezTo>
                  <a:pt x="12320" y="15227"/>
                  <a:pt x="12283" y="15186"/>
                  <a:pt x="12270" y="15147"/>
                </a:cubicBezTo>
                <a:cubicBezTo>
                  <a:pt x="12270" y="15136"/>
                  <a:pt x="12270" y="15125"/>
                  <a:pt x="12270" y="15114"/>
                </a:cubicBezTo>
                <a:cubicBezTo>
                  <a:pt x="12244" y="15079"/>
                  <a:pt x="12248" y="15115"/>
                  <a:pt x="12237" y="15048"/>
                </a:cubicBezTo>
                <a:cubicBezTo>
                  <a:pt x="12210" y="15028"/>
                  <a:pt x="12198" y="15035"/>
                  <a:pt x="12171" y="15015"/>
                </a:cubicBezTo>
                <a:cubicBezTo>
                  <a:pt x="12146" y="14984"/>
                  <a:pt x="12150" y="14955"/>
                  <a:pt x="12105" y="14916"/>
                </a:cubicBezTo>
                <a:cubicBezTo>
                  <a:pt x="12075" y="14886"/>
                  <a:pt x="12069" y="14875"/>
                  <a:pt x="12039" y="14883"/>
                </a:cubicBezTo>
                <a:cubicBezTo>
                  <a:pt x="12020" y="14834"/>
                  <a:pt x="12012" y="14807"/>
                  <a:pt x="12005" y="14751"/>
                </a:cubicBezTo>
                <a:cubicBezTo>
                  <a:pt x="11978" y="14729"/>
                  <a:pt x="11947" y="14708"/>
                  <a:pt x="11906" y="14684"/>
                </a:cubicBezTo>
                <a:cubicBezTo>
                  <a:pt x="11883" y="14666"/>
                  <a:pt x="11848" y="14642"/>
                  <a:pt x="11807" y="14618"/>
                </a:cubicBezTo>
                <a:cubicBezTo>
                  <a:pt x="11787" y="14591"/>
                  <a:pt x="11794" y="14579"/>
                  <a:pt x="11774" y="14552"/>
                </a:cubicBezTo>
                <a:cubicBezTo>
                  <a:pt x="11732" y="14527"/>
                  <a:pt x="11739" y="14528"/>
                  <a:pt x="11675" y="14519"/>
                </a:cubicBezTo>
                <a:cubicBezTo>
                  <a:pt x="11655" y="14492"/>
                  <a:pt x="11662" y="14480"/>
                  <a:pt x="11642" y="14453"/>
                </a:cubicBezTo>
                <a:cubicBezTo>
                  <a:pt x="11622" y="14437"/>
                  <a:pt x="11582" y="14400"/>
                  <a:pt x="11542" y="14387"/>
                </a:cubicBezTo>
                <a:cubicBezTo>
                  <a:pt x="11531" y="14387"/>
                  <a:pt x="11520" y="14387"/>
                  <a:pt x="11509" y="14387"/>
                </a:cubicBezTo>
                <a:cubicBezTo>
                  <a:pt x="11482" y="14365"/>
                  <a:pt x="11470" y="14335"/>
                  <a:pt x="11410" y="14321"/>
                </a:cubicBezTo>
                <a:cubicBezTo>
                  <a:pt x="11342" y="14305"/>
                  <a:pt x="11249" y="14321"/>
                  <a:pt x="11179" y="14321"/>
                </a:cubicBezTo>
                <a:cubicBezTo>
                  <a:pt x="11144" y="14347"/>
                  <a:pt x="11180" y="14343"/>
                  <a:pt x="11113" y="14354"/>
                </a:cubicBezTo>
                <a:cubicBezTo>
                  <a:pt x="11079" y="14379"/>
                  <a:pt x="11112" y="14376"/>
                  <a:pt x="11046" y="14387"/>
                </a:cubicBezTo>
                <a:cubicBezTo>
                  <a:pt x="11026" y="14414"/>
                  <a:pt x="11033" y="14426"/>
                  <a:pt x="11013" y="14453"/>
                </a:cubicBezTo>
                <a:cubicBezTo>
                  <a:pt x="10971" y="14478"/>
                  <a:pt x="10978" y="14477"/>
                  <a:pt x="10914" y="14486"/>
                </a:cubicBezTo>
                <a:cubicBezTo>
                  <a:pt x="10894" y="14513"/>
                  <a:pt x="10901" y="14525"/>
                  <a:pt x="10881" y="14552"/>
                </a:cubicBezTo>
                <a:cubicBezTo>
                  <a:pt x="10854" y="14572"/>
                  <a:pt x="10842" y="14565"/>
                  <a:pt x="10815" y="14585"/>
                </a:cubicBezTo>
                <a:cubicBezTo>
                  <a:pt x="10794" y="14606"/>
                  <a:pt x="10755" y="14645"/>
                  <a:pt x="10716" y="14684"/>
                </a:cubicBezTo>
                <a:cubicBezTo>
                  <a:pt x="10671" y="14729"/>
                  <a:pt x="10644" y="14772"/>
                  <a:pt x="10616" y="14817"/>
                </a:cubicBezTo>
                <a:cubicBezTo>
                  <a:pt x="10590" y="14852"/>
                  <a:pt x="10594" y="14816"/>
                  <a:pt x="10583" y="14883"/>
                </a:cubicBezTo>
                <a:cubicBezTo>
                  <a:pt x="10500" y="14911"/>
                  <a:pt x="10544" y="14866"/>
                  <a:pt x="10517" y="14949"/>
                </a:cubicBezTo>
                <a:cubicBezTo>
                  <a:pt x="10497" y="14969"/>
                  <a:pt x="10445" y="15002"/>
                  <a:pt x="10418" y="15048"/>
                </a:cubicBezTo>
                <a:cubicBezTo>
                  <a:pt x="10418" y="15059"/>
                  <a:pt x="10418" y="15070"/>
                  <a:pt x="10418" y="15081"/>
                </a:cubicBezTo>
                <a:cubicBezTo>
                  <a:pt x="10374" y="15081"/>
                  <a:pt x="10330" y="15081"/>
                  <a:pt x="10286" y="15081"/>
                </a:cubicBezTo>
              </a:path>
            </a:pathLst>
          </a:custGeom>
          <a:noFill/>
          <a:ln cap="rnd" w="1908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7" name="Object 2"/>
              <p:cNvSpPr txBox="1"/>
              <p:nvPr/>
            </p:nvSpPr>
            <p:spPr>
              <a:xfrm>
                <a:off x="1447920" y="0"/>
                <a:ext cx="3709800" cy="12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Text Box 6"/>
          <p:cNvSpPr/>
          <p:nvPr/>
        </p:nvSpPr>
        <p:spPr>
          <a:xfrm>
            <a:off x="1447920" y="51814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xis of Sym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8"/>
              <p:cNvSpPr txBox="1"/>
              <p:nvPr/>
            </p:nvSpPr>
            <p:spPr>
              <a:xfrm>
                <a:off x="2514600" y="2743200"/>
                <a:ext cx="1076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Text Box 13"/>
          <p:cNvSpPr/>
          <p:nvPr/>
        </p:nvSpPr>
        <p:spPr>
          <a:xfrm>
            <a:off x="4343400" y="2971800"/>
            <a:ext cx="12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-1, -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4"/>
          <p:cNvSpPr/>
          <p:nvPr/>
        </p:nvSpPr>
        <p:spPr>
          <a:xfrm>
            <a:off x="4192560" y="617220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rt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0" y="3049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2"/>
          <p:cNvSpPr/>
          <p:nvPr/>
        </p:nvSpPr>
        <p:spPr>
          <a:xfrm>
            <a:off x="2441520" y="335268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3"/>
          <p:cNvSpPr/>
          <p:nvPr/>
        </p:nvSpPr>
        <p:spPr>
          <a:xfrm>
            <a:off x="4192200" y="3352680"/>
            <a:ext cx="19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 ver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4"/>
          <p:cNvSpPr/>
          <p:nvPr/>
        </p:nvSpPr>
        <p:spPr>
          <a:xfrm>
            <a:off x="0" y="2133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x-inter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80880" y="2743200"/>
          <a:ext cx="1143000" cy="156996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</a:tblGrid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Line 59"/>
          <p:cNvSpPr/>
          <p:nvPr/>
        </p:nvSpPr>
        <p:spPr>
          <a:xfrm flipH="1">
            <a:off x="2590560" y="3809880"/>
            <a:ext cx="228600" cy="106704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0"/>
          <p:cNvSpPr/>
          <p:nvPr/>
        </p:nvSpPr>
        <p:spPr>
          <a:xfrm flipH="1">
            <a:off x="3733560" y="3886200"/>
            <a:ext cx="533160" cy="9907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6" descr=""/>
          <p:cNvPicPr/>
          <p:nvPr/>
        </p:nvPicPr>
        <p:blipFill>
          <a:blip r:embed="rId1"/>
          <a:stretch/>
        </p:blipFill>
        <p:spPr>
          <a:xfrm>
            <a:off x="0" y="4952880"/>
            <a:ext cx="5791320" cy="3915000"/>
          </a:xfrm>
          <a:prstGeom prst="rect">
            <a:avLst/>
          </a:prstGeom>
          <a:ln w="0">
            <a:noFill/>
          </a:ln>
        </p:spPr>
      </p:pic>
      <p:cxnSp>
        <p:nvCxnSpPr>
          <p:cNvPr id="170" name="Straight Arrow Connector 36"/>
          <p:cNvCxnSpPr/>
          <p:nvPr/>
        </p:nvCxnSpPr>
        <p:spPr>
          <a:xfrm flipH="1">
            <a:off x="2590560" y="5181120"/>
            <a:ext cx="2160" cy="3582360"/>
          </a:xfrm>
          <a:prstGeom prst="straightConnector1">
            <a:avLst/>
          </a:prstGeom>
          <a:ln w="38160">
            <a:solidFill>
              <a:srgbClr val="008000"/>
            </a:solidFill>
            <a:miter/>
            <a:headEnd len="med" type="arrow" w="med"/>
            <a:tailEnd len="med" type="arrow" w="med"/>
          </a:ln>
        </p:spPr>
      </p:cxnSp>
      <p:sp>
        <p:nvSpPr>
          <p:cNvPr id="171" name="Donut 39"/>
          <p:cNvSpPr/>
          <p:nvPr/>
        </p:nvSpPr>
        <p:spPr>
          <a:xfrm>
            <a:off x="2514600" y="7543800"/>
            <a:ext cx="152280" cy="304920"/>
          </a:xfrm>
          <a:custGeom>
            <a:avLst/>
            <a:gdLst>
              <a:gd name="textAreaLeft" fmla="*/ 22320 w 152280"/>
              <a:gd name="textAreaRight" fmla="*/ 129960 w 152280"/>
              <a:gd name="textAreaTop" fmla="*/ 44640 h 304920"/>
              <a:gd name="textAreaBottom" fmla="*/ 260280 h 304920"/>
            </a:gdLst>
            <a:ahLst/>
            <a:rect l="textAreaLeft" t="textAreaTop" r="textAreaRight" b="textAreaBottom"/>
            <a:pathLst>
              <a:path w="152400" h="304800">
                <a:moveTo>
                  <a:pt x="0" y="152400"/>
                </a:moveTo>
                <a:lnTo>
                  <a:pt x="0" y="152400"/>
                </a:lnTo>
                <a:arcTo wR="76200" hR="152400" stAng="10800000" swAng="5400000"/>
                <a:lnTo>
                  <a:pt x="76200" y="0"/>
                </a:lnTo>
                <a:arcTo wR="76200" hR="152400" stAng="-5400000" swAng="5400000"/>
                <a:lnTo>
                  <a:pt x="152400" y="152400"/>
                </a:lnTo>
                <a:arcTo wR="76200" hR="152400" stAng="0" swAng="5400000"/>
                <a:lnTo>
                  <a:pt x="76200" y="304800"/>
                </a:lnTo>
                <a:arcTo wR="76200" hR="152400" stAng="5400000" swAng="5400000"/>
                <a:close/>
                <a:moveTo>
                  <a:pt x="38100" y="152400"/>
                </a:moveTo>
                <a:lnTo>
                  <a:pt x="38100" y="152400"/>
                </a:lnTo>
                <a:arcTo wR="38100" hR="114300" stAng="10800000" swAng="-5400000"/>
                <a:lnTo>
                  <a:pt x="76200" y="266700"/>
                </a:lnTo>
                <a:arcTo wR="38100" hR="114300" stAng="5400000" swAng="-5400000"/>
                <a:lnTo>
                  <a:pt x="114300" y="152400"/>
                </a:lnTo>
                <a:arcTo wR="38100" hR="114300" stAng="0" swAng="-5400000"/>
                <a:lnTo>
                  <a:pt x="76200" y="38100"/>
                </a:lnTo>
                <a:arcTo wR="38100" hR="114300" stAng="-5400000" swAng="-5400000"/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40"/>
          <p:cNvSpPr/>
          <p:nvPr/>
        </p:nvSpPr>
        <p:spPr>
          <a:xfrm>
            <a:off x="3276720" y="7162920"/>
            <a:ext cx="182520" cy="18252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62"/>
          <p:cNvSpPr/>
          <p:nvPr/>
        </p:nvSpPr>
        <p:spPr>
          <a:xfrm>
            <a:off x="1143000" y="4191120"/>
            <a:ext cx="1143000" cy="30477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43"/>
          <p:cNvSpPr/>
          <p:nvPr/>
        </p:nvSpPr>
        <p:spPr>
          <a:xfrm flipH="1">
            <a:off x="1980360" y="7238880"/>
            <a:ext cx="182520" cy="18252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2"/>
          <p:cNvSpPr/>
          <p:nvPr/>
        </p:nvSpPr>
        <p:spPr>
          <a:xfrm>
            <a:off x="1295280" y="3505320"/>
            <a:ext cx="2057400" cy="35049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4"/>
          <p:cNvSpPr/>
          <p:nvPr/>
        </p:nvSpPr>
        <p:spPr>
          <a:xfrm>
            <a:off x="4344840" y="251460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rt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1981080" y="19051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xis of Sym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nk 68"/>
          <p:cNvSpPr/>
          <p:nvPr/>
        </p:nvSpPr>
        <p:spPr>
          <a:xfrm>
            <a:off x="3011400" y="73231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367" y="20340"/>
                </a:moveTo>
                <a:lnTo>
                  <a:pt x="8367" y="20340"/>
                </a:lnTo>
              </a:path>
            </a:pathLst>
          </a:custGeom>
          <a:noFill/>
          <a:ln cap="rnd" w="1908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Ink 6"/>
          <p:cNvSpPr/>
          <p:nvPr/>
        </p:nvSpPr>
        <p:spPr>
          <a:xfrm>
            <a:off x="1393920" y="5500800"/>
            <a:ext cx="2476440" cy="2227320"/>
          </a:xfrm>
          <a:custGeom>
            <a:avLst/>
            <a:gdLst/>
            <a:ahLst/>
            <a:rect l="l" t="t" r="r" b="b"/>
            <a:pathLst>
              <a:path w="6880" h="6185">
                <a:moveTo>
                  <a:pt x="4994" y="18852"/>
                </a:moveTo>
                <a:cubicBezTo>
                  <a:pt x="5012" y="18894"/>
                  <a:pt x="5010" y="18942"/>
                  <a:pt x="5027" y="18984"/>
                </a:cubicBezTo>
                <a:cubicBezTo>
                  <a:pt x="5045" y="19028"/>
                  <a:pt x="5115" y="19097"/>
                  <a:pt x="5126" y="19116"/>
                </a:cubicBezTo>
                <a:cubicBezTo>
                  <a:pt x="5148" y="19156"/>
                  <a:pt x="5169" y="19205"/>
                  <a:pt x="5192" y="19248"/>
                </a:cubicBezTo>
                <a:cubicBezTo>
                  <a:pt x="5212" y="19287"/>
                  <a:pt x="5237" y="19337"/>
                  <a:pt x="5259" y="19381"/>
                </a:cubicBezTo>
                <a:cubicBezTo>
                  <a:pt x="5280" y="19422"/>
                  <a:pt x="5302" y="19468"/>
                  <a:pt x="5325" y="19513"/>
                </a:cubicBezTo>
                <a:cubicBezTo>
                  <a:pt x="5343" y="19548"/>
                  <a:pt x="5371" y="19617"/>
                  <a:pt x="5391" y="19645"/>
                </a:cubicBezTo>
                <a:cubicBezTo>
                  <a:pt x="5430" y="19698"/>
                  <a:pt x="5448" y="19689"/>
                  <a:pt x="5490" y="19745"/>
                </a:cubicBezTo>
                <a:cubicBezTo>
                  <a:pt x="5511" y="19773"/>
                  <a:pt x="5538" y="19788"/>
                  <a:pt x="5556" y="19811"/>
                </a:cubicBezTo>
                <a:cubicBezTo>
                  <a:pt x="5577" y="19838"/>
                  <a:pt x="5565" y="19881"/>
                  <a:pt x="5589" y="19910"/>
                </a:cubicBezTo>
                <a:cubicBezTo>
                  <a:pt x="5606" y="19930"/>
                  <a:pt x="5657" y="19968"/>
                  <a:pt x="5689" y="20009"/>
                </a:cubicBezTo>
                <a:cubicBezTo>
                  <a:pt x="5705" y="20030"/>
                  <a:pt x="5745" y="20059"/>
                  <a:pt x="5755" y="20075"/>
                </a:cubicBezTo>
                <a:cubicBezTo>
                  <a:pt x="5780" y="20114"/>
                  <a:pt x="5797" y="20210"/>
                  <a:pt x="5821" y="20241"/>
                </a:cubicBezTo>
                <a:cubicBezTo>
                  <a:pt x="5841" y="20268"/>
                  <a:pt x="5891" y="20261"/>
                  <a:pt x="5920" y="20307"/>
                </a:cubicBezTo>
                <a:cubicBezTo>
                  <a:pt x="5937" y="20335"/>
                  <a:pt x="5980" y="20395"/>
                  <a:pt x="5986" y="20406"/>
                </a:cubicBezTo>
                <a:cubicBezTo>
                  <a:pt x="6010" y="20446"/>
                  <a:pt x="6020" y="20490"/>
                  <a:pt x="6052" y="20538"/>
                </a:cubicBezTo>
                <a:cubicBezTo>
                  <a:pt x="6074" y="20572"/>
                  <a:pt x="6118" y="20617"/>
                  <a:pt x="6152" y="20671"/>
                </a:cubicBezTo>
                <a:cubicBezTo>
                  <a:pt x="6176" y="20709"/>
                  <a:pt x="6180" y="20720"/>
                  <a:pt x="6218" y="20770"/>
                </a:cubicBezTo>
                <a:cubicBezTo>
                  <a:pt x="6248" y="20809"/>
                  <a:pt x="6276" y="20858"/>
                  <a:pt x="6317" y="20902"/>
                </a:cubicBezTo>
                <a:cubicBezTo>
                  <a:pt x="6357" y="20945"/>
                  <a:pt x="6389" y="20979"/>
                  <a:pt x="6416" y="21001"/>
                </a:cubicBezTo>
                <a:cubicBezTo>
                  <a:pt x="6446" y="21025"/>
                  <a:pt x="6481" y="21009"/>
                  <a:pt x="6515" y="21034"/>
                </a:cubicBezTo>
                <a:cubicBezTo>
                  <a:pt x="6520" y="21038"/>
                  <a:pt x="6576" y="21131"/>
                  <a:pt x="6582" y="21134"/>
                </a:cubicBezTo>
                <a:cubicBezTo>
                  <a:pt x="6634" y="21160"/>
                  <a:pt x="6675" y="21146"/>
                  <a:pt x="6714" y="21167"/>
                </a:cubicBezTo>
                <a:cubicBezTo>
                  <a:pt x="6726" y="21174"/>
                  <a:pt x="6761" y="21219"/>
                  <a:pt x="6780" y="21233"/>
                </a:cubicBezTo>
                <a:cubicBezTo>
                  <a:pt x="6812" y="21256"/>
                  <a:pt x="6829" y="21271"/>
                  <a:pt x="6879" y="21299"/>
                </a:cubicBezTo>
                <a:cubicBezTo>
                  <a:pt x="6935" y="21330"/>
                  <a:pt x="6935" y="21345"/>
                  <a:pt x="6978" y="21365"/>
                </a:cubicBezTo>
                <a:cubicBezTo>
                  <a:pt x="7028" y="21388"/>
                  <a:pt x="7056" y="21390"/>
                  <a:pt x="7111" y="21398"/>
                </a:cubicBezTo>
                <a:cubicBezTo>
                  <a:pt x="7171" y="21407"/>
                  <a:pt x="7257" y="21426"/>
                  <a:pt x="7276" y="21431"/>
                </a:cubicBezTo>
                <a:cubicBezTo>
                  <a:pt x="7319" y="21442"/>
                  <a:pt x="7332" y="21457"/>
                  <a:pt x="7375" y="21464"/>
                </a:cubicBezTo>
                <a:cubicBezTo>
                  <a:pt x="7527" y="21487"/>
                  <a:pt x="7773" y="21471"/>
                  <a:pt x="7871" y="21431"/>
                </a:cubicBezTo>
                <a:cubicBezTo>
                  <a:pt x="7925" y="21409"/>
                  <a:pt x="7932" y="21426"/>
                  <a:pt x="7971" y="21398"/>
                </a:cubicBezTo>
                <a:cubicBezTo>
                  <a:pt x="8005" y="21374"/>
                  <a:pt x="8022" y="21336"/>
                  <a:pt x="8070" y="21299"/>
                </a:cubicBezTo>
                <a:cubicBezTo>
                  <a:pt x="8099" y="21277"/>
                  <a:pt x="8137" y="21291"/>
                  <a:pt x="8169" y="21266"/>
                </a:cubicBezTo>
                <a:cubicBezTo>
                  <a:pt x="8178" y="21259"/>
                  <a:pt x="8255" y="21179"/>
                  <a:pt x="8268" y="21167"/>
                </a:cubicBezTo>
                <a:cubicBezTo>
                  <a:pt x="8311" y="21127"/>
                  <a:pt x="8339" y="21128"/>
                  <a:pt x="8367" y="21101"/>
                </a:cubicBezTo>
                <a:cubicBezTo>
                  <a:pt x="8367" y="21090"/>
                  <a:pt x="8367" y="21078"/>
                  <a:pt x="8367" y="21067"/>
                </a:cubicBezTo>
                <a:cubicBezTo>
                  <a:pt x="8409" y="21045"/>
                  <a:pt x="8413" y="21036"/>
                  <a:pt x="8467" y="21001"/>
                </a:cubicBezTo>
                <a:cubicBezTo>
                  <a:pt x="8502" y="20979"/>
                  <a:pt x="8506" y="20955"/>
                  <a:pt x="8533" y="20935"/>
                </a:cubicBezTo>
                <a:cubicBezTo>
                  <a:pt x="8565" y="20910"/>
                  <a:pt x="8603" y="20926"/>
                  <a:pt x="8632" y="20902"/>
                </a:cubicBezTo>
                <a:cubicBezTo>
                  <a:pt x="8653" y="20885"/>
                  <a:pt x="8714" y="20816"/>
                  <a:pt x="8731" y="20803"/>
                </a:cubicBezTo>
                <a:cubicBezTo>
                  <a:pt x="8753" y="20786"/>
                  <a:pt x="8786" y="20744"/>
                  <a:pt x="8797" y="20737"/>
                </a:cubicBezTo>
                <a:cubicBezTo>
                  <a:pt x="8836" y="20710"/>
                  <a:pt x="8888" y="20706"/>
                  <a:pt x="8930" y="20671"/>
                </a:cubicBezTo>
                <a:cubicBezTo>
                  <a:pt x="8943" y="20660"/>
                  <a:pt x="9008" y="20623"/>
                  <a:pt x="9029" y="20604"/>
                </a:cubicBezTo>
                <a:cubicBezTo>
                  <a:pt x="9054" y="20582"/>
                  <a:pt x="9061" y="20546"/>
                  <a:pt x="9095" y="20505"/>
                </a:cubicBezTo>
                <a:cubicBezTo>
                  <a:pt x="9113" y="20483"/>
                  <a:pt x="9139" y="20431"/>
                  <a:pt x="9161" y="20406"/>
                </a:cubicBezTo>
                <a:cubicBezTo>
                  <a:pt x="9183" y="20381"/>
                  <a:pt x="9204" y="20369"/>
                  <a:pt x="9227" y="20340"/>
                </a:cubicBezTo>
                <a:cubicBezTo>
                  <a:pt x="9269" y="20288"/>
                  <a:pt x="9306" y="20244"/>
                  <a:pt x="9327" y="20208"/>
                </a:cubicBezTo>
                <a:cubicBezTo>
                  <a:pt x="9352" y="20165"/>
                  <a:pt x="9379" y="20128"/>
                  <a:pt x="9393" y="20108"/>
                </a:cubicBezTo>
                <a:cubicBezTo>
                  <a:pt x="9418" y="20072"/>
                  <a:pt x="9420" y="20058"/>
                  <a:pt x="9459" y="20009"/>
                </a:cubicBezTo>
                <a:cubicBezTo>
                  <a:pt x="9492" y="19967"/>
                  <a:pt x="9532" y="19911"/>
                  <a:pt x="9558" y="19877"/>
                </a:cubicBezTo>
                <a:cubicBezTo>
                  <a:pt x="9599" y="19824"/>
                  <a:pt x="9653" y="19771"/>
                  <a:pt x="9690" y="19711"/>
                </a:cubicBezTo>
                <a:cubicBezTo>
                  <a:pt x="9730" y="19646"/>
                  <a:pt x="9752" y="19579"/>
                  <a:pt x="9790" y="19513"/>
                </a:cubicBezTo>
                <a:cubicBezTo>
                  <a:pt x="9848" y="19410"/>
                  <a:pt x="9867" y="19321"/>
                  <a:pt x="9922" y="19215"/>
                </a:cubicBezTo>
                <a:cubicBezTo>
                  <a:pt x="9964" y="19135"/>
                  <a:pt x="9984" y="19029"/>
                  <a:pt x="10021" y="18951"/>
                </a:cubicBezTo>
                <a:cubicBezTo>
                  <a:pt x="10052" y="18886"/>
                  <a:pt x="10094" y="18820"/>
                  <a:pt x="10120" y="18752"/>
                </a:cubicBezTo>
                <a:cubicBezTo>
                  <a:pt x="10152" y="18670"/>
                  <a:pt x="10160" y="18597"/>
                  <a:pt x="10186" y="18521"/>
                </a:cubicBezTo>
                <a:cubicBezTo>
                  <a:pt x="10201" y="18476"/>
                  <a:pt x="10228" y="18419"/>
                  <a:pt x="10253" y="18355"/>
                </a:cubicBezTo>
                <a:cubicBezTo>
                  <a:pt x="10275" y="18300"/>
                  <a:pt x="10298" y="18245"/>
                  <a:pt x="10319" y="18190"/>
                </a:cubicBezTo>
                <a:cubicBezTo>
                  <a:pt x="10341" y="18133"/>
                  <a:pt x="10408" y="18047"/>
                  <a:pt x="10418" y="18025"/>
                </a:cubicBezTo>
                <a:cubicBezTo>
                  <a:pt x="10446" y="17965"/>
                  <a:pt x="10461" y="17913"/>
                  <a:pt x="10484" y="17859"/>
                </a:cubicBezTo>
                <a:cubicBezTo>
                  <a:pt x="10511" y="17795"/>
                  <a:pt x="10528" y="17727"/>
                  <a:pt x="10550" y="17661"/>
                </a:cubicBezTo>
                <a:cubicBezTo>
                  <a:pt x="10574" y="17589"/>
                  <a:pt x="10618" y="17524"/>
                  <a:pt x="10649" y="17463"/>
                </a:cubicBezTo>
                <a:cubicBezTo>
                  <a:pt x="10677" y="17408"/>
                  <a:pt x="10693" y="17354"/>
                  <a:pt x="10716" y="17297"/>
                </a:cubicBezTo>
                <a:cubicBezTo>
                  <a:pt x="10733" y="17256"/>
                  <a:pt x="10735" y="17241"/>
                  <a:pt x="10749" y="17198"/>
                </a:cubicBezTo>
              </a:path>
              <a:path w="6880" h="6185">
                <a:moveTo>
                  <a:pt x="5060" y="18984"/>
                </a:moveTo>
                <a:cubicBezTo>
                  <a:pt x="5054" y="18921"/>
                  <a:pt x="5039" y="18911"/>
                  <a:pt x="5027" y="18885"/>
                </a:cubicBezTo>
                <a:cubicBezTo>
                  <a:pt x="5005" y="18838"/>
                  <a:pt x="5027" y="18816"/>
                  <a:pt x="4994" y="18785"/>
                </a:cubicBezTo>
                <a:cubicBezTo>
                  <a:pt x="4966" y="18759"/>
                  <a:pt x="4954" y="18748"/>
                  <a:pt x="4928" y="18719"/>
                </a:cubicBezTo>
                <a:cubicBezTo>
                  <a:pt x="4919" y="18709"/>
                  <a:pt x="4877" y="18634"/>
                  <a:pt x="4862" y="18620"/>
                </a:cubicBezTo>
                <a:cubicBezTo>
                  <a:pt x="4833" y="18593"/>
                  <a:pt x="4822" y="18585"/>
                  <a:pt x="4796" y="18554"/>
                </a:cubicBezTo>
                <a:cubicBezTo>
                  <a:pt x="4770" y="18523"/>
                  <a:pt x="4714" y="18438"/>
                  <a:pt x="4696" y="18422"/>
                </a:cubicBezTo>
                <a:cubicBezTo>
                  <a:pt x="4635" y="18369"/>
                  <a:pt x="4635" y="18365"/>
                  <a:pt x="4597" y="18289"/>
                </a:cubicBezTo>
                <a:cubicBezTo>
                  <a:pt x="4570" y="18235"/>
                  <a:pt x="4552" y="18228"/>
                  <a:pt x="4531" y="18190"/>
                </a:cubicBezTo>
                <a:cubicBezTo>
                  <a:pt x="4526" y="18182"/>
                  <a:pt x="4513" y="18115"/>
                  <a:pt x="4498" y="18091"/>
                </a:cubicBezTo>
                <a:cubicBezTo>
                  <a:pt x="4468" y="18042"/>
                  <a:pt x="4455" y="18002"/>
                  <a:pt x="4432" y="17959"/>
                </a:cubicBezTo>
                <a:cubicBezTo>
                  <a:pt x="4404" y="17906"/>
                  <a:pt x="4388" y="17761"/>
                  <a:pt x="4366" y="17727"/>
                </a:cubicBezTo>
                <a:cubicBezTo>
                  <a:pt x="4338" y="17684"/>
                  <a:pt x="4331" y="17623"/>
                  <a:pt x="4299" y="17562"/>
                </a:cubicBezTo>
                <a:cubicBezTo>
                  <a:pt x="4258" y="17483"/>
                  <a:pt x="4261" y="17481"/>
                  <a:pt x="4233" y="17396"/>
                </a:cubicBezTo>
                <a:cubicBezTo>
                  <a:pt x="4214" y="17339"/>
                  <a:pt x="4174" y="17265"/>
                  <a:pt x="4167" y="17198"/>
                </a:cubicBezTo>
                <a:cubicBezTo>
                  <a:pt x="4159" y="17120"/>
                  <a:pt x="4141" y="17037"/>
                  <a:pt x="4134" y="16966"/>
                </a:cubicBezTo>
                <a:cubicBezTo>
                  <a:pt x="4124" y="16869"/>
                  <a:pt x="4126" y="16794"/>
                  <a:pt x="4101" y="16702"/>
                </a:cubicBezTo>
                <a:cubicBezTo>
                  <a:pt x="4066" y="16573"/>
                  <a:pt x="4064" y="16437"/>
                  <a:pt x="4035" y="16305"/>
                </a:cubicBezTo>
                <a:cubicBezTo>
                  <a:pt x="4008" y="16183"/>
                  <a:pt x="3980" y="16065"/>
                  <a:pt x="3969" y="15941"/>
                </a:cubicBezTo>
                <a:cubicBezTo>
                  <a:pt x="3957" y="15807"/>
                  <a:pt x="3941" y="15741"/>
                  <a:pt x="3903" y="15610"/>
                </a:cubicBezTo>
                <a:cubicBezTo>
                  <a:pt x="3882" y="15536"/>
                  <a:pt x="3873" y="15458"/>
                  <a:pt x="3870" y="15379"/>
                </a:cubicBezTo>
                <a:cubicBezTo>
                  <a:pt x="3869" y="15346"/>
                  <a:pt x="3870" y="15313"/>
                  <a:pt x="3870" y="15280"/>
                </a:cubicBezTo>
              </a:path>
            </a:pathLst>
          </a:custGeom>
          <a:noFill/>
          <a:ln cap="rnd" w="1908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4267080"/>
            <a:ext cx="4191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y=1/2[(     )(       )]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380880" y="1828800"/>
                <a:ext cx="342900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533520" y="304920"/>
            <a:ext cx="579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ertex and the intercept form can be rewritten in standard form by multiplying the algebraic expres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8954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the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st term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386160" y="2895480"/>
            <a:ext cx="32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th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er term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57560" y="3505320"/>
            <a:ext cx="307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the 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t term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6000" y="3505320"/>
            <a:ext cx="312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the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ner term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02000" y="4191120"/>
            <a:ext cx="49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90920" y="41911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6920" y="419112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41911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+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5029200"/>
            <a:ext cx="4191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y=1/2[                     ]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09680" y="5029200"/>
            <a:ext cx="914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cc"/>
                </a:solidFill>
                <a:latin typeface="Times New Roman"/>
              </a:rPr>
              <a:t>3x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23880" y="5029200"/>
            <a:ext cx="914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cc0000"/>
                </a:solidFill>
                <a:latin typeface="Times New Roman"/>
              </a:rPr>
              <a:t>xx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95480" y="5029200"/>
            <a:ext cx="838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 baseline="30000">
                <a:solidFill>
                  <a:srgbClr val="008000"/>
                </a:solidFill>
                <a:latin typeface="Times New Roman"/>
              </a:rPr>
              <a:t>-</a:t>
            </a:r>
            <a:r>
              <a:rPr b="0" i="1" lang="en-US" sz="34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05320" y="5029200"/>
            <a:ext cx="609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 baseline="30000">
                <a:solidFill>
                  <a:srgbClr val="660066"/>
                </a:solidFill>
                <a:latin typeface="Times New Roman"/>
              </a:rPr>
              <a:t>-</a:t>
            </a:r>
            <a:r>
              <a:rPr b="0" i="1" lang="en-US" sz="34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01880" y="5791320"/>
            <a:ext cx="2858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y=1/2[x</a:t>
            </a:r>
            <a:r>
              <a:rPr b="0" lang="en-US" sz="3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+2x-3]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1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5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3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1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8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3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1:44:57Z</dcterms:created>
  <dc:creator>Sheila Raja</dc:creator>
  <dc:description/>
  <dc:language>en-US</dc:language>
  <cp:lastModifiedBy>Sheila Raja</cp:lastModifiedBy>
  <dcterms:modified xsi:type="dcterms:W3CDTF">2010-11-18T04:18:25Z</dcterms:modified>
  <cp:revision>60</cp:revision>
  <dc:subject/>
  <dc:title>Chapter 5 Section 1</dc:title>
</cp:coreProperties>
</file>